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F105777-0902-452A-9F68-EC1C12535391}" type="doc">
      <dgm:prSet loTypeId="urn:microsoft.com/office/officeart/2005/8/layout/cycle6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88CEF7E4-BA4A-4CAC-8359-D732D585D9EF}">
      <dgm:prSet phldrT="[Текст]" custT="1"/>
      <dgm:spPr/>
      <dgm:t>
        <a:bodyPr/>
        <a:lstStyle/>
        <a:p>
          <a:r>
            <a:rPr lang="ru-RU" sz="2000" dirty="0" smtClean="0">
              <a:solidFill>
                <a:schemeClr val="tx1"/>
              </a:solidFill>
            </a:rPr>
            <a:t>Планирование использования земельных ресурсов (территориальное планирование, зонирование, резервирование). Определение целей использования ЗУ и земель, деление земель на категории, установление видов разрешенного использования</a:t>
          </a:r>
          <a:endParaRPr lang="ru-RU" sz="2000" dirty="0">
            <a:solidFill>
              <a:schemeClr val="tx1"/>
            </a:solidFill>
          </a:endParaRPr>
        </a:p>
      </dgm:t>
    </dgm:pt>
    <dgm:pt modelId="{FB1CC6BA-DB50-4DC8-88E8-067B2D9B1422}" type="parTrans" cxnId="{ACAE0855-EAD3-437E-A03A-D268949E2844}">
      <dgm:prSet/>
      <dgm:spPr/>
      <dgm:t>
        <a:bodyPr/>
        <a:lstStyle/>
        <a:p>
          <a:endParaRPr lang="ru-RU"/>
        </a:p>
      </dgm:t>
    </dgm:pt>
    <dgm:pt modelId="{E11190E7-B647-4E27-94DE-F2B26E4EF0BA}" type="sibTrans" cxnId="{ACAE0855-EAD3-437E-A03A-D268949E2844}">
      <dgm:prSet/>
      <dgm:spPr/>
      <dgm:t>
        <a:bodyPr/>
        <a:lstStyle/>
        <a:p>
          <a:endParaRPr lang="ru-RU"/>
        </a:p>
      </dgm:t>
    </dgm:pt>
    <dgm:pt modelId="{6E9FAC02-C307-474B-A214-74256BB9AE23}">
      <dgm:prSet phldrT="[Текст]" custT="1"/>
      <dgm:spPr/>
      <dgm:t>
        <a:bodyPr/>
        <a:lstStyle/>
        <a:p>
          <a:r>
            <a:rPr lang="ru-RU" sz="1800" dirty="0" smtClean="0">
              <a:solidFill>
                <a:schemeClr val="tx1"/>
              </a:solidFill>
            </a:rPr>
            <a:t>Предоставление  и изъятие земель для определенных целей (в т.ч. для публичных нужд) (включение ЗУ в оборот, изменение правового статуса ЗУ в публичных интересах)</a:t>
          </a:r>
          <a:endParaRPr lang="ru-RU" sz="1800" dirty="0">
            <a:solidFill>
              <a:schemeClr val="tx1"/>
            </a:solidFill>
          </a:endParaRPr>
        </a:p>
      </dgm:t>
    </dgm:pt>
    <dgm:pt modelId="{47E69E38-29C1-4451-A707-3B16432F6B9A}" type="parTrans" cxnId="{4ABF178A-85CF-43CA-AFE5-C75C490BC7A5}">
      <dgm:prSet/>
      <dgm:spPr/>
      <dgm:t>
        <a:bodyPr/>
        <a:lstStyle/>
        <a:p>
          <a:endParaRPr lang="ru-RU"/>
        </a:p>
      </dgm:t>
    </dgm:pt>
    <dgm:pt modelId="{CECA140C-B536-446F-9BE6-BC9445E7B01A}" type="sibTrans" cxnId="{4ABF178A-85CF-43CA-AFE5-C75C490BC7A5}">
      <dgm:prSet/>
      <dgm:spPr/>
      <dgm:t>
        <a:bodyPr/>
        <a:lstStyle/>
        <a:p>
          <a:endParaRPr lang="ru-RU"/>
        </a:p>
      </dgm:t>
    </dgm:pt>
    <dgm:pt modelId="{B0F0C1EE-B0D5-409B-AB30-8A79CE2EDE95}">
      <dgm:prSet phldrT="[Текст]" custT="1"/>
      <dgm:spPr/>
      <dgm:t>
        <a:bodyPr/>
        <a:lstStyle/>
        <a:p>
          <a:r>
            <a:rPr lang="ru-RU" sz="1600" dirty="0" smtClean="0">
              <a:solidFill>
                <a:schemeClr val="tx1"/>
              </a:solidFill>
            </a:rPr>
            <a:t>Землеустройство (организационно-правовые мероприятия по обеспечению рационального землепользования)</a:t>
          </a:r>
          <a:endParaRPr lang="ru-RU" sz="1600" dirty="0">
            <a:solidFill>
              <a:schemeClr val="tx1"/>
            </a:solidFill>
          </a:endParaRPr>
        </a:p>
      </dgm:t>
    </dgm:pt>
    <dgm:pt modelId="{A10A3D1B-4316-40FF-BAC9-3BD4DA0F33C6}" type="parTrans" cxnId="{48D925F3-BEB9-4B68-9F4A-3FB44C45BD13}">
      <dgm:prSet/>
      <dgm:spPr/>
      <dgm:t>
        <a:bodyPr/>
        <a:lstStyle/>
        <a:p>
          <a:endParaRPr lang="ru-RU"/>
        </a:p>
      </dgm:t>
    </dgm:pt>
    <dgm:pt modelId="{D5098796-4FB0-487E-BCEC-E9FB2C8D37C3}" type="sibTrans" cxnId="{48D925F3-BEB9-4B68-9F4A-3FB44C45BD13}">
      <dgm:prSet/>
      <dgm:spPr/>
      <dgm:t>
        <a:bodyPr/>
        <a:lstStyle/>
        <a:p>
          <a:endParaRPr lang="ru-RU"/>
        </a:p>
      </dgm:t>
    </dgm:pt>
    <dgm:pt modelId="{479DC907-B156-42B7-B48A-CB7F8718A8DE}">
      <dgm:prSet phldrT="[Текст]" custT="1"/>
      <dgm:spPr/>
      <dgm:t>
        <a:bodyPr/>
        <a:lstStyle/>
        <a:p>
          <a:r>
            <a:rPr lang="ru-RU" sz="1800" dirty="0" smtClean="0">
              <a:solidFill>
                <a:schemeClr val="tx1"/>
              </a:solidFill>
            </a:rPr>
            <a:t>Государственный учет земель (ведение кадастров и реестров)</a:t>
          </a:r>
          <a:endParaRPr lang="ru-RU" sz="1800" dirty="0">
            <a:solidFill>
              <a:schemeClr val="tx1"/>
            </a:solidFill>
          </a:endParaRPr>
        </a:p>
      </dgm:t>
    </dgm:pt>
    <dgm:pt modelId="{9C9DC0A9-3461-4656-AF03-C309FBADF0D5}" type="parTrans" cxnId="{57CF09E3-AD5D-43EE-870D-328F44D0E4DA}">
      <dgm:prSet/>
      <dgm:spPr/>
      <dgm:t>
        <a:bodyPr/>
        <a:lstStyle/>
        <a:p>
          <a:endParaRPr lang="ru-RU"/>
        </a:p>
      </dgm:t>
    </dgm:pt>
    <dgm:pt modelId="{9B1777DC-F506-4106-B059-09601CFA940B}" type="sibTrans" cxnId="{57CF09E3-AD5D-43EE-870D-328F44D0E4DA}">
      <dgm:prSet/>
      <dgm:spPr/>
      <dgm:t>
        <a:bodyPr/>
        <a:lstStyle/>
        <a:p>
          <a:endParaRPr lang="ru-RU"/>
        </a:p>
      </dgm:t>
    </dgm:pt>
    <dgm:pt modelId="{9D084EC7-1A1C-4162-A622-9810E4DCB1D4}">
      <dgm:prSet phldrT="[Текст]" custT="1"/>
      <dgm:spPr/>
      <dgm:t>
        <a:bodyPr/>
        <a:lstStyle/>
        <a:p>
          <a:r>
            <a:rPr lang="ru-RU" sz="1600" dirty="0" smtClean="0">
              <a:solidFill>
                <a:schemeClr val="tx1"/>
              </a:solidFill>
            </a:rPr>
            <a:t>Земельный контроль, в т.ч. Земельный надзор (контроль за соблюдением земельного законодательства правообладателями ЗУ)</a:t>
          </a:r>
          <a:endParaRPr lang="ru-RU" sz="1600" dirty="0">
            <a:solidFill>
              <a:schemeClr val="tx1"/>
            </a:solidFill>
          </a:endParaRPr>
        </a:p>
      </dgm:t>
    </dgm:pt>
    <dgm:pt modelId="{3C163D48-83B8-4FC9-99D0-119E941C8B24}" type="parTrans" cxnId="{99568688-3BE8-40C5-9E17-DDD9A28D76FA}">
      <dgm:prSet/>
      <dgm:spPr/>
      <dgm:t>
        <a:bodyPr/>
        <a:lstStyle/>
        <a:p>
          <a:endParaRPr lang="ru-RU"/>
        </a:p>
      </dgm:t>
    </dgm:pt>
    <dgm:pt modelId="{782D7CC9-68F3-4CF8-8349-85CD37E7ED34}" type="sibTrans" cxnId="{99568688-3BE8-40C5-9E17-DDD9A28D76FA}">
      <dgm:prSet/>
      <dgm:spPr/>
      <dgm:t>
        <a:bodyPr/>
        <a:lstStyle/>
        <a:p>
          <a:endParaRPr lang="ru-RU"/>
        </a:p>
      </dgm:t>
    </dgm:pt>
    <dgm:pt modelId="{1094B854-9DB5-446F-9E8B-D1AC77264A83}">
      <dgm:prSet phldrT="[Текст]" custT="1"/>
      <dgm:spPr/>
      <dgm:t>
        <a:bodyPr/>
        <a:lstStyle/>
        <a:p>
          <a:r>
            <a:rPr lang="ru-RU" sz="1800" dirty="0" smtClean="0">
              <a:solidFill>
                <a:schemeClr val="tx1"/>
              </a:solidFill>
            </a:rPr>
            <a:t>Правовая охрана земель (охрана почв, сельхоз.угодий, мелиорация, рекультивация, консервация)</a:t>
          </a:r>
          <a:endParaRPr lang="ru-RU" sz="1800" dirty="0">
            <a:solidFill>
              <a:schemeClr val="tx1"/>
            </a:solidFill>
          </a:endParaRPr>
        </a:p>
      </dgm:t>
    </dgm:pt>
    <dgm:pt modelId="{EE34F8F7-14D9-4CBF-91E6-8C817C38EB1D}" type="parTrans" cxnId="{D72D0DF3-50BE-443F-AC7D-FE1451099DF2}">
      <dgm:prSet/>
      <dgm:spPr/>
      <dgm:t>
        <a:bodyPr/>
        <a:lstStyle/>
        <a:p>
          <a:endParaRPr lang="ru-RU"/>
        </a:p>
      </dgm:t>
    </dgm:pt>
    <dgm:pt modelId="{AD043BC7-4914-4227-AEBB-B9CA6D5DAF9E}" type="sibTrans" cxnId="{D72D0DF3-50BE-443F-AC7D-FE1451099DF2}">
      <dgm:prSet/>
      <dgm:spPr/>
      <dgm:t>
        <a:bodyPr/>
        <a:lstStyle/>
        <a:p>
          <a:endParaRPr lang="ru-RU"/>
        </a:p>
      </dgm:t>
    </dgm:pt>
    <dgm:pt modelId="{E967997A-2215-42D0-BAF5-A17689D85586}">
      <dgm:prSet phldrT="[Текст]" custT="1"/>
      <dgm:spPr/>
      <dgm:t>
        <a:bodyPr/>
        <a:lstStyle/>
        <a:p>
          <a:r>
            <a:rPr lang="ru-RU" sz="1800" dirty="0" smtClean="0">
              <a:solidFill>
                <a:schemeClr val="tx1"/>
              </a:solidFill>
            </a:rPr>
            <a:t>Права на землю: право собственности; право  ПНВ; бессрочного пользования, аренды (незыблемость права собственности, устойчивость прав на землю)</a:t>
          </a:r>
          <a:endParaRPr lang="ru-RU" sz="1800" dirty="0">
            <a:solidFill>
              <a:schemeClr val="tx1"/>
            </a:solidFill>
          </a:endParaRPr>
        </a:p>
      </dgm:t>
    </dgm:pt>
    <dgm:pt modelId="{96DAF5EF-3F5B-4CDC-B52D-24098F514D8E}" type="parTrans" cxnId="{08F04659-5AEB-493C-9E46-1B4D949BE013}">
      <dgm:prSet/>
      <dgm:spPr/>
      <dgm:t>
        <a:bodyPr/>
        <a:lstStyle/>
        <a:p>
          <a:endParaRPr lang="ru-RU"/>
        </a:p>
      </dgm:t>
    </dgm:pt>
    <dgm:pt modelId="{86A446E6-BDB3-482D-82A4-3AC0C8273283}" type="sibTrans" cxnId="{08F04659-5AEB-493C-9E46-1B4D949BE013}">
      <dgm:prSet/>
      <dgm:spPr/>
      <dgm:t>
        <a:bodyPr/>
        <a:lstStyle/>
        <a:p>
          <a:endParaRPr lang="ru-RU"/>
        </a:p>
      </dgm:t>
    </dgm:pt>
    <dgm:pt modelId="{F576F786-6788-4EAB-9642-958723B5968E}" type="pres">
      <dgm:prSet presAssocID="{1F105777-0902-452A-9F68-EC1C12535391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D2BFC0C5-FDD0-4727-94BF-D898F5D3D63F}" type="pres">
      <dgm:prSet presAssocID="{88CEF7E4-BA4A-4CAC-8359-D732D585D9EF}" presName="node" presStyleLbl="node1" presStyleIdx="0" presStyleCnt="7" custScaleX="267687" custScaleY="366327" custRadScaleRad="19281" custRadScaleInc="87157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8806531-C8BA-445A-8578-556B8C32BE3A}" type="pres">
      <dgm:prSet presAssocID="{88CEF7E4-BA4A-4CAC-8359-D732D585D9EF}" presName="spNode" presStyleCnt="0"/>
      <dgm:spPr/>
    </dgm:pt>
    <dgm:pt modelId="{D8348FD0-C314-4C77-8E72-FA685C5F3F6C}" type="pres">
      <dgm:prSet presAssocID="{E11190E7-B647-4E27-94DE-F2B26E4EF0BA}" presName="sibTrans" presStyleLbl="sibTrans1D1" presStyleIdx="0" presStyleCnt="7"/>
      <dgm:spPr/>
      <dgm:t>
        <a:bodyPr/>
        <a:lstStyle/>
        <a:p>
          <a:endParaRPr lang="ru-RU"/>
        </a:p>
      </dgm:t>
    </dgm:pt>
    <dgm:pt modelId="{331DFA78-2A89-428C-B775-E6953C367BED}" type="pres">
      <dgm:prSet presAssocID="{6E9FAC02-C307-474B-A214-74256BB9AE23}" presName="node" presStyleLbl="node1" presStyleIdx="1" presStyleCnt="7" custScaleX="188394" custScaleY="261168" custRadScaleRad="133965" custRadScaleInc="-62769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56624C4-AEEA-4D58-A79E-78647E803EC3}" type="pres">
      <dgm:prSet presAssocID="{6E9FAC02-C307-474B-A214-74256BB9AE23}" presName="spNode" presStyleCnt="0"/>
      <dgm:spPr/>
    </dgm:pt>
    <dgm:pt modelId="{56CD64BE-B015-48AB-979C-3A70B34DEC85}" type="pres">
      <dgm:prSet presAssocID="{CECA140C-B536-446F-9BE6-BC9445E7B01A}" presName="sibTrans" presStyleLbl="sibTrans1D1" presStyleIdx="1" presStyleCnt="7"/>
      <dgm:spPr/>
      <dgm:t>
        <a:bodyPr/>
        <a:lstStyle/>
        <a:p>
          <a:endParaRPr lang="ru-RU"/>
        </a:p>
      </dgm:t>
    </dgm:pt>
    <dgm:pt modelId="{A228675B-FD75-46C4-89BF-B2A0067C652A}" type="pres">
      <dgm:prSet presAssocID="{B0F0C1EE-B0D5-409B-AB30-8A79CE2EDE95}" presName="node" presStyleLbl="node1" presStyleIdx="2" presStyleCnt="7" custScaleX="175289" custScaleY="171860" custRadScaleRad="112338" custRadScaleInc="95479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D304573-45DA-482B-9445-BF9FA550421C}" type="pres">
      <dgm:prSet presAssocID="{B0F0C1EE-B0D5-409B-AB30-8A79CE2EDE95}" presName="spNode" presStyleCnt="0"/>
      <dgm:spPr/>
    </dgm:pt>
    <dgm:pt modelId="{42B97C55-BC00-4B3D-85D0-B142B44B2437}" type="pres">
      <dgm:prSet presAssocID="{D5098796-4FB0-487E-BCEC-E9FB2C8D37C3}" presName="sibTrans" presStyleLbl="sibTrans1D1" presStyleIdx="2" presStyleCnt="7"/>
      <dgm:spPr/>
      <dgm:t>
        <a:bodyPr/>
        <a:lstStyle/>
        <a:p>
          <a:endParaRPr lang="ru-RU"/>
        </a:p>
      </dgm:t>
    </dgm:pt>
    <dgm:pt modelId="{E16C4728-2728-4FAC-9C77-FA69F827664D}" type="pres">
      <dgm:prSet presAssocID="{479DC907-B156-42B7-B48A-CB7F8718A8DE}" presName="node" presStyleLbl="node1" presStyleIdx="3" presStyleCnt="7" custScaleX="172536" custScaleY="113244" custRadScaleRad="129699" custRadScaleInc="50286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4E22722-07FD-4F39-974C-8DB3FEF804FE}" type="pres">
      <dgm:prSet presAssocID="{479DC907-B156-42B7-B48A-CB7F8718A8DE}" presName="spNode" presStyleCnt="0"/>
      <dgm:spPr/>
    </dgm:pt>
    <dgm:pt modelId="{83ED803F-58B7-4EFC-A22A-C8F9FD547CFF}" type="pres">
      <dgm:prSet presAssocID="{9B1777DC-F506-4106-B059-09601CFA940B}" presName="sibTrans" presStyleLbl="sibTrans1D1" presStyleIdx="3" presStyleCnt="7"/>
      <dgm:spPr/>
      <dgm:t>
        <a:bodyPr/>
        <a:lstStyle/>
        <a:p>
          <a:endParaRPr lang="ru-RU"/>
        </a:p>
      </dgm:t>
    </dgm:pt>
    <dgm:pt modelId="{D1C4A34A-2983-4B59-9CF5-4D862C82BA78}" type="pres">
      <dgm:prSet presAssocID="{9D084EC7-1A1C-4162-A622-9810E4DCB1D4}" presName="node" presStyleLbl="node1" presStyleIdx="4" presStyleCnt="7" custScaleX="157973" custScaleY="257861" custRadScaleRad="131875" custRadScaleInc="-59850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CE3F216-4C49-4B15-80B0-6684A83C527B}" type="pres">
      <dgm:prSet presAssocID="{9D084EC7-1A1C-4162-A622-9810E4DCB1D4}" presName="spNode" presStyleCnt="0"/>
      <dgm:spPr/>
    </dgm:pt>
    <dgm:pt modelId="{0EE82789-6340-4557-9E69-496860237FBC}" type="pres">
      <dgm:prSet presAssocID="{782D7CC9-68F3-4CF8-8349-85CD37E7ED34}" presName="sibTrans" presStyleLbl="sibTrans1D1" presStyleIdx="4" presStyleCnt="7"/>
      <dgm:spPr/>
      <dgm:t>
        <a:bodyPr/>
        <a:lstStyle/>
        <a:p>
          <a:endParaRPr lang="ru-RU"/>
        </a:p>
      </dgm:t>
    </dgm:pt>
    <dgm:pt modelId="{CEB599F2-D838-4801-A65A-070D24695961}" type="pres">
      <dgm:prSet presAssocID="{1094B854-9DB5-446F-9E8B-D1AC77264A83}" presName="node" presStyleLbl="node1" presStyleIdx="5" presStyleCnt="7" custScaleX="158239" custScaleY="207320" custRadScaleRad="151303" custRadScaleInc="92816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DB7592E-7348-4088-9269-591B86D57486}" type="pres">
      <dgm:prSet presAssocID="{1094B854-9DB5-446F-9E8B-D1AC77264A83}" presName="spNode" presStyleCnt="0"/>
      <dgm:spPr/>
    </dgm:pt>
    <dgm:pt modelId="{53BF50CC-81C3-4122-A52F-DF59A439AECF}" type="pres">
      <dgm:prSet presAssocID="{AD043BC7-4914-4227-AEBB-B9CA6D5DAF9E}" presName="sibTrans" presStyleLbl="sibTrans1D1" presStyleIdx="5" presStyleCnt="7"/>
      <dgm:spPr/>
      <dgm:t>
        <a:bodyPr/>
        <a:lstStyle/>
        <a:p>
          <a:endParaRPr lang="ru-RU"/>
        </a:p>
      </dgm:t>
    </dgm:pt>
    <dgm:pt modelId="{39704F4A-AA5A-41F7-BB5E-72862268B1CC}" type="pres">
      <dgm:prSet presAssocID="{E967997A-2215-42D0-BAF5-A17689D85586}" presName="node" presStyleLbl="node1" presStyleIdx="6" presStyleCnt="7" custScaleX="215336" custScaleY="208043" custRadScaleRad="93392" custRadScaleInc="30386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09FF9E4-BBE6-4D2D-BA81-650CD006B6BB}" type="pres">
      <dgm:prSet presAssocID="{E967997A-2215-42D0-BAF5-A17689D85586}" presName="spNode" presStyleCnt="0"/>
      <dgm:spPr/>
    </dgm:pt>
    <dgm:pt modelId="{6E12EC9A-46ED-4133-8658-0D2C31F314C6}" type="pres">
      <dgm:prSet presAssocID="{86A446E6-BDB3-482D-82A4-3AC0C8273283}" presName="sibTrans" presStyleLbl="sibTrans1D1" presStyleIdx="6" presStyleCnt="7"/>
      <dgm:spPr/>
      <dgm:t>
        <a:bodyPr/>
        <a:lstStyle/>
        <a:p>
          <a:endParaRPr lang="ru-RU"/>
        </a:p>
      </dgm:t>
    </dgm:pt>
  </dgm:ptLst>
  <dgm:cxnLst>
    <dgm:cxn modelId="{625E849C-12EE-4275-B4C8-2C8C8C9EB916}" type="presOf" srcId="{9D084EC7-1A1C-4162-A622-9810E4DCB1D4}" destId="{D1C4A34A-2983-4B59-9CF5-4D862C82BA78}" srcOrd="0" destOrd="0" presId="urn:microsoft.com/office/officeart/2005/8/layout/cycle6"/>
    <dgm:cxn modelId="{C2D7188A-7CAE-4C10-9151-D35276B48C02}" type="presOf" srcId="{86A446E6-BDB3-482D-82A4-3AC0C8273283}" destId="{6E12EC9A-46ED-4133-8658-0D2C31F314C6}" srcOrd="0" destOrd="0" presId="urn:microsoft.com/office/officeart/2005/8/layout/cycle6"/>
    <dgm:cxn modelId="{19DE8284-598A-4DF9-A172-55FFBDBF083D}" type="presOf" srcId="{CECA140C-B536-446F-9BE6-BC9445E7B01A}" destId="{56CD64BE-B015-48AB-979C-3A70B34DEC85}" srcOrd="0" destOrd="0" presId="urn:microsoft.com/office/officeart/2005/8/layout/cycle6"/>
    <dgm:cxn modelId="{4ABF178A-85CF-43CA-AFE5-C75C490BC7A5}" srcId="{1F105777-0902-452A-9F68-EC1C12535391}" destId="{6E9FAC02-C307-474B-A214-74256BB9AE23}" srcOrd="1" destOrd="0" parTransId="{47E69E38-29C1-4451-A707-3B16432F6B9A}" sibTransId="{CECA140C-B536-446F-9BE6-BC9445E7B01A}"/>
    <dgm:cxn modelId="{3207E4BD-D189-47A2-917D-68D3857088A1}" type="presOf" srcId="{479DC907-B156-42B7-B48A-CB7F8718A8DE}" destId="{E16C4728-2728-4FAC-9C77-FA69F827664D}" srcOrd="0" destOrd="0" presId="urn:microsoft.com/office/officeart/2005/8/layout/cycle6"/>
    <dgm:cxn modelId="{D72D0DF3-50BE-443F-AC7D-FE1451099DF2}" srcId="{1F105777-0902-452A-9F68-EC1C12535391}" destId="{1094B854-9DB5-446F-9E8B-D1AC77264A83}" srcOrd="5" destOrd="0" parTransId="{EE34F8F7-14D9-4CBF-91E6-8C817C38EB1D}" sibTransId="{AD043BC7-4914-4227-AEBB-B9CA6D5DAF9E}"/>
    <dgm:cxn modelId="{3BA02381-D78B-4C00-AC13-C2784FD09B86}" type="presOf" srcId="{E967997A-2215-42D0-BAF5-A17689D85586}" destId="{39704F4A-AA5A-41F7-BB5E-72862268B1CC}" srcOrd="0" destOrd="0" presId="urn:microsoft.com/office/officeart/2005/8/layout/cycle6"/>
    <dgm:cxn modelId="{0D60F181-2991-429E-A360-3A9CA29A5F97}" type="presOf" srcId="{1F105777-0902-452A-9F68-EC1C12535391}" destId="{F576F786-6788-4EAB-9642-958723B5968E}" srcOrd="0" destOrd="0" presId="urn:microsoft.com/office/officeart/2005/8/layout/cycle6"/>
    <dgm:cxn modelId="{5FAAEEB8-76BF-4AAF-8143-2F9EAFFA06A6}" type="presOf" srcId="{B0F0C1EE-B0D5-409B-AB30-8A79CE2EDE95}" destId="{A228675B-FD75-46C4-89BF-B2A0067C652A}" srcOrd="0" destOrd="0" presId="urn:microsoft.com/office/officeart/2005/8/layout/cycle6"/>
    <dgm:cxn modelId="{99568688-3BE8-40C5-9E17-DDD9A28D76FA}" srcId="{1F105777-0902-452A-9F68-EC1C12535391}" destId="{9D084EC7-1A1C-4162-A622-9810E4DCB1D4}" srcOrd="4" destOrd="0" parTransId="{3C163D48-83B8-4FC9-99D0-119E941C8B24}" sibTransId="{782D7CC9-68F3-4CF8-8349-85CD37E7ED34}"/>
    <dgm:cxn modelId="{13A80D81-BCE6-4216-882D-7E172631AA1B}" type="presOf" srcId="{6E9FAC02-C307-474B-A214-74256BB9AE23}" destId="{331DFA78-2A89-428C-B775-E6953C367BED}" srcOrd="0" destOrd="0" presId="urn:microsoft.com/office/officeart/2005/8/layout/cycle6"/>
    <dgm:cxn modelId="{326CEBCB-779B-4C7C-8AFC-1D8517C90404}" type="presOf" srcId="{782D7CC9-68F3-4CF8-8349-85CD37E7ED34}" destId="{0EE82789-6340-4557-9E69-496860237FBC}" srcOrd="0" destOrd="0" presId="urn:microsoft.com/office/officeart/2005/8/layout/cycle6"/>
    <dgm:cxn modelId="{9A329E27-D255-4AB7-87D8-6F7971263D64}" type="presOf" srcId="{E11190E7-B647-4E27-94DE-F2B26E4EF0BA}" destId="{D8348FD0-C314-4C77-8E72-FA685C5F3F6C}" srcOrd="0" destOrd="0" presId="urn:microsoft.com/office/officeart/2005/8/layout/cycle6"/>
    <dgm:cxn modelId="{4B8C72FC-B67A-4563-ABC1-547B6CC2DB7F}" type="presOf" srcId="{D5098796-4FB0-487E-BCEC-E9FB2C8D37C3}" destId="{42B97C55-BC00-4B3D-85D0-B142B44B2437}" srcOrd="0" destOrd="0" presId="urn:microsoft.com/office/officeart/2005/8/layout/cycle6"/>
    <dgm:cxn modelId="{08F04659-5AEB-493C-9E46-1B4D949BE013}" srcId="{1F105777-0902-452A-9F68-EC1C12535391}" destId="{E967997A-2215-42D0-BAF5-A17689D85586}" srcOrd="6" destOrd="0" parTransId="{96DAF5EF-3F5B-4CDC-B52D-24098F514D8E}" sibTransId="{86A446E6-BDB3-482D-82A4-3AC0C8273283}"/>
    <dgm:cxn modelId="{48D925F3-BEB9-4B68-9F4A-3FB44C45BD13}" srcId="{1F105777-0902-452A-9F68-EC1C12535391}" destId="{B0F0C1EE-B0D5-409B-AB30-8A79CE2EDE95}" srcOrd="2" destOrd="0" parTransId="{A10A3D1B-4316-40FF-BAC9-3BD4DA0F33C6}" sibTransId="{D5098796-4FB0-487E-BCEC-E9FB2C8D37C3}"/>
    <dgm:cxn modelId="{ACAE0855-EAD3-437E-A03A-D268949E2844}" srcId="{1F105777-0902-452A-9F68-EC1C12535391}" destId="{88CEF7E4-BA4A-4CAC-8359-D732D585D9EF}" srcOrd="0" destOrd="0" parTransId="{FB1CC6BA-DB50-4DC8-88E8-067B2D9B1422}" sibTransId="{E11190E7-B647-4E27-94DE-F2B26E4EF0BA}"/>
    <dgm:cxn modelId="{FB0441DD-C64B-4170-8017-219AF8A7F3EA}" type="presOf" srcId="{AD043BC7-4914-4227-AEBB-B9CA6D5DAF9E}" destId="{53BF50CC-81C3-4122-A52F-DF59A439AECF}" srcOrd="0" destOrd="0" presId="urn:microsoft.com/office/officeart/2005/8/layout/cycle6"/>
    <dgm:cxn modelId="{058F9D78-503C-4C35-9D72-1A7DC80868B8}" type="presOf" srcId="{88CEF7E4-BA4A-4CAC-8359-D732D585D9EF}" destId="{D2BFC0C5-FDD0-4727-94BF-D898F5D3D63F}" srcOrd="0" destOrd="0" presId="urn:microsoft.com/office/officeart/2005/8/layout/cycle6"/>
    <dgm:cxn modelId="{57CF09E3-AD5D-43EE-870D-328F44D0E4DA}" srcId="{1F105777-0902-452A-9F68-EC1C12535391}" destId="{479DC907-B156-42B7-B48A-CB7F8718A8DE}" srcOrd="3" destOrd="0" parTransId="{9C9DC0A9-3461-4656-AF03-C309FBADF0D5}" sibTransId="{9B1777DC-F506-4106-B059-09601CFA940B}"/>
    <dgm:cxn modelId="{D2635BAE-B694-4997-8461-DDB47CC7D711}" type="presOf" srcId="{9B1777DC-F506-4106-B059-09601CFA940B}" destId="{83ED803F-58B7-4EFC-A22A-C8F9FD547CFF}" srcOrd="0" destOrd="0" presId="urn:microsoft.com/office/officeart/2005/8/layout/cycle6"/>
    <dgm:cxn modelId="{DD28F7FC-CCC4-44BA-B1E2-2DDA600176D1}" type="presOf" srcId="{1094B854-9DB5-446F-9E8B-D1AC77264A83}" destId="{CEB599F2-D838-4801-A65A-070D24695961}" srcOrd="0" destOrd="0" presId="urn:microsoft.com/office/officeart/2005/8/layout/cycle6"/>
    <dgm:cxn modelId="{40B297C8-F719-47FE-8024-023724904492}" type="presParOf" srcId="{F576F786-6788-4EAB-9642-958723B5968E}" destId="{D2BFC0C5-FDD0-4727-94BF-D898F5D3D63F}" srcOrd="0" destOrd="0" presId="urn:microsoft.com/office/officeart/2005/8/layout/cycle6"/>
    <dgm:cxn modelId="{AD8A0D31-7E59-4625-A5B0-68C09B88957A}" type="presParOf" srcId="{F576F786-6788-4EAB-9642-958723B5968E}" destId="{D8806531-C8BA-445A-8578-556B8C32BE3A}" srcOrd="1" destOrd="0" presId="urn:microsoft.com/office/officeart/2005/8/layout/cycle6"/>
    <dgm:cxn modelId="{05DADBF3-6A97-4A4C-A342-F3E54194D075}" type="presParOf" srcId="{F576F786-6788-4EAB-9642-958723B5968E}" destId="{D8348FD0-C314-4C77-8E72-FA685C5F3F6C}" srcOrd="2" destOrd="0" presId="urn:microsoft.com/office/officeart/2005/8/layout/cycle6"/>
    <dgm:cxn modelId="{49A54484-C32A-4CB6-ADB8-9D2B32D7D266}" type="presParOf" srcId="{F576F786-6788-4EAB-9642-958723B5968E}" destId="{331DFA78-2A89-428C-B775-E6953C367BED}" srcOrd="3" destOrd="0" presId="urn:microsoft.com/office/officeart/2005/8/layout/cycle6"/>
    <dgm:cxn modelId="{72AFF74C-5418-476E-AB71-A0BCC5AB4037}" type="presParOf" srcId="{F576F786-6788-4EAB-9642-958723B5968E}" destId="{956624C4-AEEA-4D58-A79E-78647E803EC3}" srcOrd="4" destOrd="0" presId="urn:microsoft.com/office/officeart/2005/8/layout/cycle6"/>
    <dgm:cxn modelId="{6330C8E2-CBA7-4996-A767-047AF2E89B44}" type="presParOf" srcId="{F576F786-6788-4EAB-9642-958723B5968E}" destId="{56CD64BE-B015-48AB-979C-3A70B34DEC85}" srcOrd="5" destOrd="0" presId="urn:microsoft.com/office/officeart/2005/8/layout/cycle6"/>
    <dgm:cxn modelId="{5C297C6F-FF1A-47AC-8AEA-0EF79712BB33}" type="presParOf" srcId="{F576F786-6788-4EAB-9642-958723B5968E}" destId="{A228675B-FD75-46C4-89BF-B2A0067C652A}" srcOrd="6" destOrd="0" presId="urn:microsoft.com/office/officeart/2005/8/layout/cycle6"/>
    <dgm:cxn modelId="{5DFBA6FE-C0A1-4B75-93E4-179511A401AF}" type="presParOf" srcId="{F576F786-6788-4EAB-9642-958723B5968E}" destId="{2D304573-45DA-482B-9445-BF9FA550421C}" srcOrd="7" destOrd="0" presId="urn:microsoft.com/office/officeart/2005/8/layout/cycle6"/>
    <dgm:cxn modelId="{46C4E709-E516-4799-A78A-94C7C18AD016}" type="presParOf" srcId="{F576F786-6788-4EAB-9642-958723B5968E}" destId="{42B97C55-BC00-4B3D-85D0-B142B44B2437}" srcOrd="8" destOrd="0" presId="urn:microsoft.com/office/officeart/2005/8/layout/cycle6"/>
    <dgm:cxn modelId="{ABFB59B1-376E-4F39-977D-79239BCE59AC}" type="presParOf" srcId="{F576F786-6788-4EAB-9642-958723B5968E}" destId="{E16C4728-2728-4FAC-9C77-FA69F827664D}" srcOrd="9" destOrd="0" presId="urn:microsoft.com/office/officeart/2005/8/layout/cycle6"/>
    <dgm:cxn modelId="{76C33FA5-7842-4360-B11F-544B4019C6E2}" type="presParOf" srcId="{F576F786-6788-4EAB-9642-958723B5968E}" destId="{D4E22722-07FD-4F39-974C-8DB3FEF804FE}" srcOrd="10" destOrd="0" presId="urn:microsoft.com/office/officeart/2005/8/layout/cycle6"/>
    <dgm:cxn modelId="{C1AF77FA-DD08-4901-BCE0-EB9293DCDB45}" type="presParOf" srcId="{F576F786-6788-4EAB-9642-958723B5968E}" destId="{83ED803F-58B7-4EFC-A22A-C8F9FD547CFF}" srcOrd="11" destOrd="0" presId="urn:microsoft.com/office/officeart/2005/8/layout/cycle6"/>
    <dgm:cxn modelId="{6871DC9B-815D-4364-93B4-962959C68D28}" type="presParOf" srcId="{F576F786-6788-4EAB-9642-958723B5968E}" destId="{D1C4A34A-2983-4B59-9CF5-4D862C82BA78}" srcOrd="12" destOrd="0" presId="urn:microsoft.com/office/officeart/2005/8/layout/cycle6"/>
    <dgm:cxn modelId="{4B03A0CD-FF95-493A-9135-1AFF4607A709}" type="presParOf" srcId="{F576F786-6788-4EAB-9642-958723B5968E}" destId="{4CE3F216-4C49-4B15-80B0-6684A83C527B}" srcOrd="13" destOrd="0" presId="urn:microsoft.com/office/officeart/2005/8/layout/cycle6"/>
    <dgm:cxn modelId="{C473E384-757B-4D47-AE9B-18FA2451038B}" type="presParOf" srcId="{F576F786-6788-4EAB-9642-958723B5968E}" destId="{0EE82789-6340-4557-9E69-496860237FBC}" srcOrd="14" destOrd="0" presId="urn:microsoft.com/office/officeart/2005/8/layout/cycle6"/>
    <dgm:cxn modelId="{9CD0CBFA-59E7-44BA-B598-F64A5EF1286C}" type="presParOf" srcId="{F576F786-6788-4EAB-9642-958723B5968E}" destId="{CEB599F2-D838-4801-A65A-070D24695961}" srcOrd="15" destOrd="0" presId="urn:microsoft.com/office/officeart/2005/8/layout/cycle6"/>
    <dgm:cxn modelId="{716F721E-7839-4504-BC1E-45FA647F405E}" type="presParOf" srcId="{F576F786-6788-4EAB-9642-958723B5968E}" destId="{ADB7592E-7348-4088-9269-591B86D57486}" srcOrd="16" destOrd="0" presId="urn:microsoft.com/office/officeart/2005/8/layout/cycle6"/>
    <dgm:cxn modelId="{0BC3C61B-E175-4303-94D3-454F560FFDEF}" type="presParOf" srcId="{F576F786-6788-4EAB-9642-958723B5968E}" destId="{53BF50CC-81C3-4122-A52F-DF59A439AECF}" srcOrd="17" destOrd="0" presId="urn:microsoft.com/office/officeart/2005/8/layout/cycle6"/>
    <dgm:cxn modelId="{6AF8F103-868C-49EE-9D54-6989325250FA}" type="presParOf" srcId="{F576F786-6788-4EAB-9642-958723B5968E}" destId="{39704F4A-AA5A-41F7-BB5E-72862268B1CC}" srcOrd="18" destOrd="0" presId="urn:microsoft.com/office/officeart/2005/8/layout/cycle6"/>
    <dgm:cxn modelId="{20093F4D-250E-47CD-ABD5-4BA19ECCE72A}" type="presParOf" srcId="{F576F786-6788-4EAB-9642-958723B5968E}" destId="{109FF9E4-BBE6-4D2D-BA81-650CD006B6BB}" srcOrd="19" destOrd="0" presId="urn:microsoft.com/office/officeart/2005/8/layout/cycle6"/>
    <dgm:cxn modelId="{04197F67-482D-4E67-BD8F-CADD6CDB0431}" type="presParOf" srcId="{F576F786-6788-4EAB-9642-958723B5968E}" destId="{6E12EC9A-46ED-4133-8658-0D2C31F314C6}" srcOrd="20" destOrd="0" presId="urn:microsoft.com/office/officeart/2005/8/layout/cycle6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CC4A7A4F-1EE6-42C1-B097-1D66173E865B}" type="doc">
      <dgm:prSet loTypeId="urn:microsoft.com/office/officeart/2005/8/layout/hierarchy4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D49553B4-42FF-47ED-99D9-7C26ACBAD54F}">
      <dgm:prSet phldrT="[Текст]" custT="1"/>
      <dgm:spPr/>
      <dgm:t>
        <a:bodyPr/>
        <a:lstStyle/>
        <a:p>
          <a:r>
            <a:rPr lang="ru-RU" sz="2800" dirty="0" smtClean="0">
              <a:solidFill>
                <a:schemeClr val="bg1"/>
              </a:solidFill>
            </a:rPr>
            <a:t>Элементы правового режима земель (определяют содержание земельных прав и обязанностей)</a:t>
          </a:r>
          <a:endParaRPr lang="ru-RU" sz="2800" dirty="0">
            <a:solidFill>
              <a:schemeClr val="bg1"/>
            </a:solidFill>
          </a:endParaRPr>
        </a:p>
      </dgm:t>
    </dgm:pt>
    <dgm:pt modelId="{F1FA1D37-DB36-442F-BBB8-DF09528118A4}" type="parTrans" cxnId="{C546E275-B8A4-4E73-9DAE-3D1F0E5F5FE4}">
      <dgm:prSet/>
      <dgm:spPr/>
      <dgm:t>
        <a:bodyPr/>
        <a:lstStyle/>
        <a:p>
          <a:endParaRPr lang="ru-RU"/>
        </a:p>
      </dgm:t>
    </dgm:pt>
    <dgm:pt modelId="{A1D743B3-954D-44EC-ACBB-73550C6C23DA}" type="sibTrans" cxnId="{C546E275-B8A4-4E73-9DAE-3D1F0E5F5FE4}">
      <dgm:prSet/>
      <dgm:spPr/>
      <dgm:t>
        <a:bodyPr/>
        <a:lstStyle/>
        <a:p>
          <a:endParaRPr lang="ru-RU"/>
        </a:p>
      </dgm:t>
    </dgm:pt>
    <dgm:pt modelId="{D28C22E3-428B-4234-B8C9-42FD4949BF87}">
      <dgm:prSet phldrT="[Текст]" custT="1"/>
      <dgm:spPr/>
      <dgm:t>
        <a:bodyPr/>
        <a:lstStyle/>
        <a:p>
          <a:r>
            <a:rPr lang="ru-RU" sz="2800" dirty="0" smtClean="0">
              <a:solidFill>
                <a:schemeClr val="bg1"/>
              </a:solidFill>
            </a:rPr>
            <a:t>Меры государственного регулирования</a:t>
          </a:r>
          <a:endParaRPr lang="ru-RU" sz="2800" dirty="0">
            <a:solidFill>
              <a:schemeClr val="bg1"/>
            </a:solidFill>
          </a:endParaRPr>
        </a:p>
      </dgm:t>
    </dgm:pt>
    <dgm:pt modelId="{BF288C68-93CE-4BB2-AB3A-0E02EA28EB31}" type="parTrans" cxnId="{5AABBD5E-A5AD-4B0B-9970-EAF8BC138374}">
      <dgm:prSet/>
      <dgm:spPr/>
      <dgm:t>
        <a:bodyPr/>
        <a:lstStyle/>
        <a:p>
          <a:endParaRPr lang="ru-RU"/>
        </a:p>
      </dgm:t>
    </dgm:pt>
    <dgm:pt modelId="{FA3303F0-F366-4C82-BA5C-04B356506763}" type="sibTrans" cxnId="{5AABBD5E-A5AD-4B0B-9970-EAF8BC138374}">
      <dgm:prSet/>
      <dgm:spPr/>
      <dgm:t>
        <a:bodyPr/>
        <a:lstStyle/>
        <a:p>
          <a:endParaRPr lang="ru-RU"/>
        </a:p>
      </dgm:t>
    </dgm:pt>
    <dgm:pt modelId="{F5487441-DED8-4647-8149-E2F5AC1C1DFD}">
      <dgm:prSet phldrT="[Текст]"/>
      <dgm:spPr/>
      <dgm:t>
        <a:bodyPr/>
        <a:lstStyle/>
        <a:p>
          <a:r>
            <a:rPr lang="ru-RU" dirty="0" smtClean="0">
              <a:solidFill>
                <a:schemeClr val="bg1"/>
              </a:solidFill>
            </a:rPr>
            <a:t>Определение целевого назначения и видов разрешенного использования в административном порядке при планировании в сфере использования земель </a:t>
          </a:r>
          <a:endParaRPr lang="ru-RU" dirty="0">
            <a:solidFill>
              <a:schemeClr val="bg1"/>
            </a:solidFill>
          </a:endParaRPr>
        </a:p>
      </dgm:t>
    </dgm:pt>
    <dgm:pt modelId="{6AE619CC-CF35-45FD-9828-95C5DEFD4685}" type="parTrans" cxnId="{728ECE45-C94D-4CDF-AD62-F5FAA4CA075D}">
      <dgm:prSet/>
      <dgm:spPr/>
      <dgm:t>
        <a:bodyPr/>
        <a:lstStyle/>
        <a:p>
          <a:endParaRPr lang="ru-RU"/>
        </a:p>
      </dgm:t>
    </dgm:pt>
    <dgm:pt modelId="{D70B1AC8-A0E9-46F3-80C9-E49C56501354}" type="sibTrans" cxnId="{728ECE45-C94D-4CDF-AD62-F5FAA4CA075D}">
      <dgm:prSet/>
      <dgm:spPr/>
      <dgm:t>
        <a:bodyPr/>
        <a:lstStyle/>
        <a:p>
          <a:endParaRPr lang="ru-RU"/>
        </a:p>
      </dgm:t>
    </dgm:pt>
    <dgm:pt modelId="{CD79AEFD-E1AB-40FE-818A-8F247D46B28C}">
      <dgm:prSet phldrT="[Текст]"/>
      <dgm:spPr/>
      <dgm:t>
        <a:bodyPr/>
        <a:lstStyle/>
        <a:p>
          <a:r>
            <a:rPr lang="ru-RU" dirty="0" smtClean="0">
              <a:solidFill>
                <a:schemeClr val="bg1"/>
              </a:solidFill>
            </a:rPr>
            <a:t>Меры по охране земель (охрана почв, сельхоз.угодий,  мелиорация, рекультивация, консервация земель)</a:t>
          </a:r>
          <a:endParaRPr lang="ru-RU" dirty="0">
            <a:solidFill>
              <a:schemeClr val="bg1"/>
            </a:solidFill>
          </a:endParaRPr>
        </a:p>
      </dgm:t>
    </dgm:pt>
    <dgm:pt modelId="{8421ADDF-179E-4986-B043-E36209D996B6}" type="parTrans" cxnId="{AB04E652-97EC-4DB7-A0B3-783B305DADEB}">
      <dgm:prSet/>
      <dgm:spPr/>
      <dgm:t>
        <a:bodyPr/>
        <a:lstStyle/>
        <a:p>
          <a:endParaRPr lang="ru-RU"/>
        </a:p>
      </dgm:t>
    </dgm:pt>
    <dgm:pt modelId="{D610E0C3-D6A5-4C0E-BC7D-44312155CCFE}" type="sibTrans" cxnId="{AB04E652-97EC-4DB7-A0B3-783B305DADEB}">
      <dgm:prSet/>
      <dgm:spPr/>
      <dgm:t>
        <a:bodyPr/>
        <a:lstStyle/>
        <a:p>
          <a:endParaRPr lang="ru-RU"/>
        </a:p>
      </dgm:t>
    </dgm:pt>
    <dgm:pt modelId="{A08E7D42-AE84-4DA1-B20D-6721947532A8}">
      <dgm:prSet phldrT="[Текст]"/>
      <dgm:spPr/>
      <dgm:t>
        <a:bodyPr/>
        <a:lstStyle/>
        <a:p>
          <a:r>
            <a:rPr lang="ru-RU" dirty="0" smtClean="0">
              <a:solidFill>
                <a:schemeClr val="bg1"/>
              </a:solidFill>
            </a:rPr>
            <a:t>Права и обязанности участников земельных правоотношений в зависимости от титула на землю</a:t>
          </a:r>
          <a:endParaRPr lang="ru-RU" dirty="0">
            <a:solidFill>
              <a:schemeClr val="bg1"/>
            </a:solidFill>
          </a:endParaRPr>
        </a:p>
      </dgm:t>
    </dgm:pt>
    <dgm:pt modelId="{4F457474-4913-488A-A577-2DB0B8C60889}" type="parTrans" cxnId="{428E1FCA-C8CC-4CB8-B564-DFDF4BA6A0F5}">
      <dgm:prSet/>
      <dgm:spPr/>
      <dgm:t>
        <a:bodyPr/>
        <a:lstStyle/>
        <a:p>
          <a:endParaRPr lang="ru-RU"/>
        </a:p>
      </dgm:t>
    </dgm:pt>
    <dgm:pt modelId="{6DB334B4-F086-4636-87B8-B1D4A6EC9CDA}" type="sibTrans" cxnId="{428E1FCA-C8CC-4CB8-B564-DFDF4BA6A0F5}">
      <dgm:prSet/>
      <dgm:spPr/>
      <dgm:t>
        <a:bodyPr/>
        <a:lstStyle/>
        <a:p>
          <a:endParaRPr lang="ru-RU"/>
        </a:p>
      </dgm:t>
    </dgm:pt>
    <dgm:pt modelId="{B73EBFEB-01D8-46E5-9B5E-59158F6541E9}">
      <dgm:prSet phldrT="[Текст]"/>
      <dgm:spPr/>
      <dgm:t>
        <a:bodyPr/>
        <a:lstStyle/>
        <a:p>
          <a:r>
            <a:rPr lang="ru-RU" dirty="0" smtClean="0">
              <a:solidFill>
                <a:schemeClr val="bg1"/>
              </a:solidFill>
            </a:rPr>
            <a:t>статус участников земельных правоотношений в зависимости от вида прав на ЗУ (собственность, аренда, безвозмездное пользование, сервитут)</a:t>
          </a:r>
          <a:endParaRPr lang="ru-RU" dirty="0">
            <a:solidFill>
              <a:schemeClr val="bg1"/>
            </a:solidFill>
          </a:endParaRPr>
        </a:p>
      </dgm:t>
    </dgm:pt>
    <dgm:pt modelId="{D16A8A41-E1A5-4B89-B3B3-EA1E52D0C7B8}" type="parTrans" cxnId="{8C86EBF2-BDDF-4499-BC04-0592CB2946B5}">
      <dgm:prSet/>
      <dgm:spPr/>
      <dgm:t>
        <a:bodyPr/>
        <a:lstStyle/>
        <a:p>
          <a:endParaRPr lang="ru-RU"/>
        </a:p>
      </dgm:t>
    </dgm:pt>
    <dgm:pt modelId="{174D4164-005E-47B7-8DA6-F9D26C76D4C5}" type="sibTrans" cxnId="{8C86EBF2-BDDF-4499-BC04-0592CB2946B5}">
      <dgm:prSet/>
      <dgm:spPr/>
      <dgm:t>
        <a:bodyPr/>
        <a:lstStyle/>
        <a:p>
          <a:endParaRPr lang="ru-RU"/>
        </a:p>
      </dgm:t>
    </dgm:pt>
    <dgm:pt modelId="{C74A21F0-5510-4AC0-A9C9-5F96A177739E}" type="pres">
      <dgm:prSet presAssocID="{CC4A7A4F-1EE6-42C1-B097-1D66173E865B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1C9AECC6-C818-4B3C-B0AE-82B7ECE08BB6}" type="pres">
      <dgm:prSet presAssocID="{D49553B4-42FF-47ED-99D9-7C26ACBAD54F}" presName="vertOne" presStyleCnt="0"/>
      <dgm:spPr/>
    </dgm:pt>
    <dgm:pt modelId="{414BB4F6-FFD9-4AE3-9426-DB87F13006B9}" type="pres">
      <dgm:prSet presAssocID="{D49553B4-42FF-47ED-99D9-7C26ACBAD54F}" presName="txOne" presStyleLbl="node0" presStyleIdx="0" presStyleCnt="1" custLinFactNeighborX="2870" custLinFactNeighborY="-1369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ADAEB24B-D46C-445F-A4D3-8542FAAB2F83}" type="pres">
      <dgm:prSet presAssocID="{D49553B4-42FF-47ED-99D9-7C26ACBAD54F}" presName="parTransOne" presStyleCnt="0"/>
      <dgm:spPr/>
    </dgm:pt>
    <dgm:pt modelId="{DBF7A8FF-FFDF-41F7-85BD-23FEA1312075}" type="pres">
      <dgm:prSet presAssocID="{D49553B4-42FF-47ED-99D9-7C26ACBAD54F}" presName="horzOne" presStyleCnt="0"/>
      <dgm:spPr/>
    </dgm:pt>
    <dgm:pt modelId="{1E039E13-2604-467B-8F7F-F4CD40662219}" type="pres">
      <dgm:prSet presAssocID="{D28C22E3-428B-4234-B8C9-42FD4949BF87}" presName="vertTwo" presStyleCnt="0"/>
      <dgm:spPr/>
    </dgm:pt>
    <dgm:pt modelId="{3343508A-0F5F-41CA-9349-9F006712B5A1}" type="pres">
      <dgm:prSet presAssocID="{D28C22E3-428B-4234-B8C9-42FD4949BF87}" presName="txTwo" presStyleLbl="node2" presStyleIdx="0" presStyleCnt="2" custLinFactNeighborX="-1283" custLinFactNeighborY="1656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22DD1D1-A4FC-405E-8250-4DDCF5BCC756}" type="pres">
      <dgm:prSet presAssocID="{D28C22E3-428B-4234-B8C9-42FD4949BF87}" presName="parTransTwo" presStyleCnt="0"/>
      <dgm:spPr/>
    </dgm:pt>
    <dgm:pt modelId="{6837691A-89FB-496F-9619-855FA2BAE2CE}" type="pres">
      <dgm:prSet presAssocID="{D28C22E3-428B-4234-B8C9-42FD4949BF87}" presName="horzTwo" presStyleCnt="0"/>
      <dgm:spPr/>
    </dgm:pt>
    <dgm:pt modelId="{1D0B74F1-6E18-4DF9-9859-1A3CB610C8A4}" type="pres">
      <dgm:prSet presAssocID="{F5487441-DED8-4647-8149-E2F5AC1C1DFD}" presName="vertThree" presStyleCnt="0"/>
      <dgm:spPr/>
    </dgm:pt>
    <dgm:pt modelId="{450DDF5C-933A-4327-84AD-6EC7C8902FC7}" type="pres">
      <dgm:prSet presAssocID="{F5487441-DED8-4647-8149-E2F5AC1C1DFD}" presName="txThree" presStyleLbl="node3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D385B57C-DB0E-4FA2-B339-E318783CCEA7}" type="pres">
      <dgm:prSet presAssocID="{F5487441-DED8-4647-8149-E2F5AC1C1DFD}" presName="horzThree" presStyleCnt="0"/>
      <dgm:spPr/>
    </dgm:pt>
    <dgm:pt modelId="{6B6FDE70-4483-4E57-8415-3AA09E6AE91F}" type="pres">
      <dgm:prSet presAssocID="{D70B1AC8-A0E9-46F3-80C9-E49C56501354}" presName="sibSpaceThree" presStyleCnt="0"/>
      <dgm:spPr/>
    </dgm:pt>
    <dgm:pt modelId="{5B86F1B5-88BC-4825-BC1A-7B1F8B0B8E89}" type="pres">
      <dgm:prSet presAssocID="{CD79AEFD-E1AB-40FE-818A-8F247D46B28C}" presName="vertThree" presStyleCnt="0"/>
      <dgm:spPr/>
    </dgm:pt>
    <dgm:pt modelId="{D2281258-AF0C-4331-8950-6FADBB4F200C}" type="pres">
      <dgm:prSet presAssocID="{CD79AEFD-E1AB-40FE-818A-8F247D46B28C}" presName="txThree" presStyleLbl="node3" presStyleIdx="1" presStyleCnt="3" custLinFactNeighborX="-1720" custLinFactNeighborY="135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A07BECC-F82A-4E14-B317-A9E104FA08F9}" type="pres">
      <dgm:prSet presAssocID="{CD79AEFD-E1AB-40FE-818A-8F247D46B28C}" presName="horzThree" presStyleCnt="0"/>
      <dgm:spPr/>
    </dgm:pt>
    <dgm:pt modelId="{E1535224-9643-4E9A-B33B-5E865C972927}" type="pres">
      <dgm:prSet presAssocID="{FA3303F0-F366-4C82-BA5C-04B356506763}" presName="sibSpaceTwo" presStyleCnt="0"/>
      <dgm:spPr/>
    </dgm:pt>
    <dgm:pt modelId="{10EC91F8-329A-4218-A1AB-C4057674E71B}" type="pres">
      <dgm:prSet presAssocID="{A08E7D42-AE84-4DA1-B20D-6721947532A8}" presName="vertTwo" presStyleCnt="0"/>
      <dgm:spPr/>
    </dgm:pt>
    <dgm:pt modelId="{8C793B0B-152C-4719-8EDD-97A91C20D333}" type="pres">
      <dgm:prSet presAssocID="{A08E7D42-AE84-4DA1-B20D-6721947532A8}" presName="txTwo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BAA44E03-2459-4B2E-8D68-6AE1B70BC6DC}" type="pres">
      <dgm:prSet presAssocID="{A08E7D42-AE84-4DA1-B20D-6721947532A8}" presName="parTransTwo" presStyleCnt="0"/>
      <dgm:spPr/>
    </dgm:pt>
    <dgm:pt modelId="{F0DC0F26-75EF-4A3C-87FD-07FE25F911B4}" type="pres">
      <dgm:prSet presAssocID="{A08E7D42-AE84-4DA1-B20D-6721947532A8}" presName="horzTwo" presStyleCnt="0"/>
      <dgm:spPr/>
    </dgm:pt>
    <dgm:pt modelId="{D45DCF26-D258-4EC1-847E-707B1E689A67}" type="pres">
      <dgm:prSet presAssocID="{B73EBFEB-01D8-46E5-9B5E-59158F6541E9}" presName="vertThree" presStyleCnt="0"/>
      <dgm:spPr/>
    </dgm:pt>
    <dgm:pt modelId="{7C6F38B0-DD80-440D-AB4D-F837A963591A}" type="pres">
      <dgm:prSet presAssocID="{B73EBFEB-01D8-46E5-9B5E-59158F6541E9}" presName="txThree" presStyleLbl="node3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5D60B0E5-751C-4682-BB7F-0C91325E77DF}" type="pres">
      <dgm:prSet presAssocID="{B73EBFEB-01D8-46E5-9B5E-59158F6541E9}" presName="horzThree" presStyleCnt="0"/>
      <dgm:spPr/>
    </dgm:pt>
  </dgm:ptLst>
  <dgm:cxnLst>
    <dgm:cxn modelId="{728ECE45-C94D-4CDF-AD62-F5FAA4CA075D}" srcId="{D28C22E3-428B-4234-B8C9-42FD4949BF87}" destId="{F5487441-DED8-4647-8149-E2F5AC1C1DFD}" srcOrd="0" destOrd="0" parTransId="{6AE619CC-CF35-45FD-9828-95C5DEFD4685}" sibTransId="{D70B1AC8-A0E9-46F3-80C9-E49C56501354}"/>
    <dgm:cxn modelId="{C546E275-B8A4-4E73-9DAE-3D1F0E5F5FE4}" srcId="{CC4A7A4F-1EE6-42C1-B097-1D66173E865B}" destId="{D49553B4-42FF-47ED-99D9-7C26ACBAD54F}" srcOrd="0" destOrd="0" parTransId="{F1FA1D37-DB36-442F-BBB8-DF09528118A4}" sibTransId="{A1D743B3-954D-44EC-ACBB-73550C6C23DA}"/>
    <dgm:cxn modelId="{8C86EBF2-BDDF-4499-BC04-0592CB2946B5}" srcId="{A08E7D42-AE84-4DA1-B20D-6721947532A8}" destId="{B73EBFEB-01D8-46E5-9B5E-59158F6541E9}" srcOrd="0" destOrd="0" parTransId="{D16A8A41-E1A5-4B89-B3B3-EA1E52D0C7B8}" sibTransId="{174D4164-005E-47B7-8DA6-F9D26C76D4C5}"/>
    <dgm:cxn modelId="{428E1FCA-C8CC-4CB8-B564-DFDF4BA6A0F5}" srcId="{D49553B4-42FF-47ED-99D9-7C26ACBAD54F}" destId="{A08E7D42-AE84-4DA1-B20D-6721947532A8}" srcOrd="1" destOrd="0" parTransId="{4F457474-4913-488A-A577-2DB0B8C60889}" sibTransId="{6DB334B4-F086-4636-87B8-B1D4A6EC9CDA}"/>
    <dgm:cxn modelId="{9216436C-DDF6-48A4-B6DB-96BBB1754B76}" type="presOf" srcId="{F5487441-DED8-4647-8149-E2F5AC1C1DFD}" destId="{450DDF5C-933A-4327-84AD-6EC7C8902FC7}" srcOrd="0" destOrd="0" presId="urn:microsoft.com/office/officeart/2005/8/layout/hierarchy4"/>
    <dgm:cxn modelId="{377EDD88-B410-4697-B6B7-E7D27B7E1843}" type="presOf" srcId="{CC4A7A4F-1EE6-42C1-B097-1D66173E865B}" destId="{C74A21F0-5510-4AC0-A9C9-5F96A177739E}" srcOrd="0" destOrd="0" presId="urn:microsoft.com/office/officeart/2005/8/layout/hierarchy4"/>
    <dgm:cxn modelId="{CB24B7E4-67F5-4CC8-8257-EF1C7B244067}" type="presOf" srcId="{A08E7D42-AE84-4DA1-B20D-6721947532A8}" destId="{8C793B0B-152C-4719-8EDD-97A91C20D333}" srcOrd="0" destOrd="0" presId="urn:microsoft.com/office/officeart/2005/8/layout/hierarchy4"/>
    <dgm:cxn modelId="{C820BFF2-C546-4380-AAC3-AD1FC525ED7C}" type="presOf" srcId="{CD79AEFD-E1AB-40FE-818A-8F247D46B28C}" destId="{D2281258-AF0C-4331-8950-6FADBB4F200C}" srcOrd="0" destOrd="0" presId="urn:microsoft.com/office/officeart/2005/8/layout/hierarchy4"/>
    <dgm:cxn modelId="{1E994B91-DD4B-4A3E-96CC-6E5B10EF2AA3}" type="presOf" srcId="{B73EBFEB-01D8-46E5-9B5E-59158F6541E9}" destId="{7C6F38B0-DD80-440D-AB4D-F837A963591A}" srcOrd="0" destOrd="0" presId="urn:microsoft.com/office/officeart/2005/8/layout/hierarchy4"/>
    <dgm:cxn modelId="{5AABBD5E-A5AD-4B0B-9970-EAF8BC138374}" srcId="{D49553B4-42FF-47ED-99D9-7C26ACBAD54F}" destId="{D28C22E3-428B-4234-B8C9-42FD4949BF87}" srcOrd="0" destOrd="0" parTransId="{BF288C68-93CE-4BB2-AB3A-0E02EA28EB31}" sibTransId="{FA3303F0-F366-4C82-BA5C-04B356506763}"/>
    <dgm:cxn modelId="{DA672815-1F74-48CB-9460-6A8C4C6B5A08}" type="presOf" srcId="{D49553B4-42FF-47ED-99D9-7C26ACBAD54F}" destId="{414BB4F6-FFD9-4AE3-9426-DB87F13006B9}" srcOrd="0" destOrd="0" presId="urn:microsoft.com/office/officeart/2005/8/layout/hierarchy4"/>
    <dgm:cxn modelId="{D660C850-806A-4278-A8DB-0CF4F50FF5E3}" type="presOf" srcId="{D28C22E3-428B-4234-B8C9-42FD4949BF87}" destId="{3343508A-0F5F-41CA-9349-9F006712B5A1}" srcOrd="0" destOrd="0" presId="urn:microsoft.com/office/officeart/2005/8/layout/hierarchy4"/>
    <dgm:cxn modelId="{AB04E652-97EC-4DB7-A0B3-783B305DADEB}" srcId="{D28C22E3-428B-4234-B8C9-42FD4949BF87}" destId="{CD79AEFD-E1AB-40FE-818A-8F247D46B28C}" srcOrd="1" destOrd="0" parTransId="{8421ADDF-179E-4986-B043-E36209D996B6}" sibTransId="{D610E0C3-D6A5-4C0E-BC7D-44312155CCFE}"/>
    <dgm:cxn modelId="{0718DE9A-2E38-420A-A18E-446BAECB4A13}" type="presParOf" srcId="{C74A21F0-5510-4AC0-A9C9-5F96A177739E}" destId="{1C9AECC6-C818-4B3C-B0AE-82B7ECE08BB6}" srcOrd="0" destOrd="0" presId="urn:microsoft.com/office/officeart/2005/8/layout/hierarchy4"/>
    <dgm:cxn modelId="{31742DEA-F932-4033-9CDD-F7D31FA9BAD9}" type="presParOf" srcId="{1C9AECC6-C818-4B3C-B0AE-82B7ECE08BB6}" destId="{414BB4F6-FFD9-4AE3-9426-DB87F13006B9}" srcOrd="0" destOrd="0" presId="urn:microsoft.com/office/officeart/2005/8/layout/hierarchy4"/>
    <dgm:cxn modelId="{A5D512CB-0E28-4A44-9CCB-3C0496D16A6C}" type="presParOf" srcId="{1C9AECC6-C818-4B3C-B0AE-82B7ECE08BB6}" destId="{ADAEB24B-D46C-445F-A4D3-8542FAAB2F83}" srcOrd="1" destOrd="0" presId="urn:microsoft.com/office/officeart/2005/8/layout/hierarchy4"/>
    <dgm:cxn modelId="{21E75A57-626B-4C64-B9BA-AD85E9AB880B}" type="presParOf" srcId="{1C9AECC6-C818-4B3C-B0AE-82B7ECE08BB6}" destId="{DBF7A8FF-FFDF-41F7-85BD-23FEA1312075}" srcOrd="2" destOrd="0" presId="urn:microsoft.com/office/officeart/2005/8/layout/hierarchy4"/>
    <dgm:cxn modelId="{7794CE17-9A1F-4956-945D-995709C07802}" type="presParOf" srcId="{DBF7A8FF-FFDF-41F7-85BD-23FEA1312075}" destId="{1E039E13-2604-467B-8F7F-F4CD40662219}" srcOrd="0" destOrd="0" presId="urn:microsoft.com/office/officeart/2005/8/layout/hierarchy4"/>
    <dgm:cxn modelId="{D3DBAFB6-2A52-40EC-B2FC-5A948DDB2485}" type="presParOf" srcId="{1E039E13-2604-467B-8F7F-F4CD40662219}" destId="{3343508A-0F5F-41CA-9349-9F006712B5A1}" srcOrd="0" destOrd="0" presId="urn:microsoft.com/office/officeart/2005/8/layout/hierarchy4"/>
    <dgm:cxn modelId="{334EE497-7D1C-4923-AC9F-6D1AE87D597A}" type="presParOf" srcId="{1E039E13-2604-467B-8F7F-F4CD40662219}" destId="{B22DD1D1-A4FC-405E-8250-4DDCF5BCC756}" srcOrd="1" destOrd="0" presId="urn:microsoft.com/office/officeart/2005/8/layout/hierarchy4"/>
    <dgm:cxn modelId="{73F48EB9-A3E7-4921-9E31-F4156F5E986E}" type="presParOf" srcId="{1E039E13-2604-467B-8F7F-F4CD40662219}" destId="{6837691A-89FB-496F-9619-855FA2BAE2CE}" srcOrd="2" destOrd="0" presId="urn:microsoft.com/office/officeart/2005/8/layout/hierarchy4"/>
    <dgm:cxn modelId="{35EDC6B2-094B-4FC4-A495-D2499983315A}" type="presParOf" srcId="{6837691A-89FB-496F-9619-855FA2BAE2CE}" destId="{1D0B74F1-6E18-4DF9-9859-1A3CB610C8A4}" srcOrd="0" destOrd="0" presId="urn:microsoft.com/office/officeart/2005/8/layout/hierarchy4"/>
    <dgm:cxn modelId="{5B0BAEE9-097A-4109-BCDB-1DC60DB62B36}" type="presParOf" srcId="{1D0B74F1-6E18-4DF9-9859-1A3CB610C8A4}" destId="{450DDF5C-933A-4327-84AD-6EC7C8902FC7}" srcOrd="0" destOrd="0" presId="urn:microsoft.com/office/officeart/2005/8/layout/hierarchy4"/>
    <dgm:cxn modelId="{5A16F587-1887-4DBF-A6B9-900A7499D32D}" type="presParOf" srcId="{1D0B74F1-6E18-4DF9-9859-1A3CB610C8A4}" destId="{D385B57C-DB0E-4FA2-B339-E318783CCEA7}" srcOrd="1" destOrd="0" presId="urn:microsoft.com/office/officeart/2005/8/layout/hierarchy4"/>
    <dgm:cxn modelId="{98A89131-C54D-4CF0-976F-8172053DC45A}" type="presParOf" srcId="{6837691A-89FB-496F-9619-855FA2BAE2CE}" destId="{6B6FDE70-4483-4E57-8415-3AA09E6AE91F}" srcOrd="1" destOrd="0" presId="urn:microsoft.com/office/officeart/2005/8/layout/hierarchy4"/>
    <dgm:cxn modelId="{BA7AFA98-7114-4214-ACA2-F38496C315BD}" type="presParOf" srcId="{6837691A-89FB-496F-9619-855FA2BAE2CE}" destId="{5B86F1B5-88BC-4825-BC1A-7B1F8B0B8E89}" srcOrd="2" destOrd="0" presId="urn:microsoft.com/office/officeart/2005/8/layout/hierarchy4"/>
    <dgm:cxn modelId="{3B024153-66DC-4BC2-AF25-1B8297614345}" type="presParOf" srcId="{5B86F1B5-88BC-4825-BC1A-7B1F8B0B8E89}" destId="{D2281258-AF0C-4331-8950-6FADBB4F200C}" srcOrd="0" destOrd="0" presId="urn:microsoft.com/office/officeart/2005/8/layout/hierarchy4"/>
    <dgm:cxn modelId="{27B15A0B-5412-48FB-B2EB-6E4D01EFBC11}" type="presParOf" srcId="{5B86F1B5-88BC-4825-BC1A-7B1F8B0B8E89}" destId="{3A07BECC-F82A-4E14-B317-A9E104FA08F9}" srcOrd="1" destOrd="0" presId="urn:microsoft.com/office/officeart/2005/8/layout/hierarchy4"/>
    <dgm:cxn modelId="{2B140BD8-2E9E-428C-AA03-6A6DAB7409CC}" type="presParOf" srcId="{DBF7A8FF-FFDF-41F7-85BD-23FEA1312075}" destId="{E1535224-9643-4E9A-B33B-5E865C972927}" srcOrd="1" destOrd="0" presId="urn:microsoft.com/office/officeart/2005/8/layout/hierarchy4"/>
    <dgm:cxn modelId="{F99398FD-0146-4A0C-BF1C-A8F8661D09A7}" type="presParOf" srcId="{DBF7A8FF-FFDF-41F7-85BD-23FEA1312075}" destId="{10EC91F8-329A-4218-A1AB-C4057674E71B}" srcOrd="2" destOrd="0" presId="urn:microsoft.com/office/officeart/2005/8/layout/hierarchy4"/>
    <dgm:cxn modelId="{72970752-5552-4983-9DD3-FE9D9D6AB35D}" type="presParOf" srcId="{10EC91F8-329A-4218-A1AB-C4057674E71B}" destId="{8C793B0B-152C-4719-8EDD-97A91C20D333}" srcOrd="0" destOrd="0" presId="urn:microsoft.com/office/officeart/2005/8/layout/hierarchy4"/>
    <dgm:cxn modelId="{5045E587-EBA2-45D0-9C7E-D3FE90F493B1}" type="presParOf" srcId="{10EC91F8-329A-4218-A1AB-C4057674E71B}" destId="{BAA44E03-2459-4B2E-8D68-6AE1B70BC6DC}" srcOrd="1" destOrd="0" presId="urn:microsoft.com/office/officeart/2005/8/layout/hierarchy4"/>
    <dgm:cxn modelId="{061389F2-E6FF-4BBC-B1A7-62AEA20D7252}" type="presParOf" srcId="{10EC91F8-329A-4218-A1AB-C4057674E71B}" destId="{F0DC0F26-75EF-4A3C-87FD-07FE25F911B4}" srcOrd="2" destOrd="0" presId="urn:microsoft.com/office/officeart/2005/8/layout/hierarchy4"/>
    <dgm:cxn modelId="{449CCFA2-C902-4046-AD35-FB90873FB8A3}" type="presParOf" srcId="{F0DC0F26-75EF-4A3C-87FD-07FE25F911B4}" destId="{D45DCF26-D258-4EC1-847E-707B1E689A67}" srcOrd="0" destOrd="0" presId="urn:microsoft.com/office/officeart/2005/8/layout/hierarchy4"/>
    <dgm:cxn modelId="{963AA429-C1C4-457F-AACC-93B36E7C8E47}" type="presParOf" srcId="{D45DCF26-D258-4EC1-847E-707B1E689A67}" destId="{7C6F38B0-DD80-440D-AB4D-F837A963591A}" srcOrd="0" destOrd="0" presId="urn:microsoft.com/office/officeart/2005/8/layout/hierarchy4"/>
    <dgm:cxn modelId="{197B0B82-26DB-4CF5-87F4-1E80272A6A31}" type="presParOf" srcId="{D45DCF26-D258-4EC1-847E-707B1E689A67}" destId="{5D60B0E5-751C-4682-BB7F-0C91325E77DF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D2BFC0C5-FDD0-4727-94BF-D898F5D3D63F}">
      <dsp:nvSpPr>
        <dsp:cNvPr id="0" name=""/>
        <dsp:cNvSpPr/>
      </dsp:nvSpPr>
      <dsp:spPr>
        <a:xfrm>
          <a:off x="2771803" y="2124232"/>
          <a:ext cx="3858952" cy="3432610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00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solidFill>
                <a:schemeClr val="tx1"/>
              </a:solidFill>
            </a:rPr>
            <a:t>Планирование использования земельных ресурсов (территориальное планирование, зонирование, резервирование). Определение целей использования ЗУ и земель, деление земель на категории, установление видов разрешенного использования</a:t>
          </a:r>
          <a:endParaRPr lang="ru-RU" sz="2000" kern="1200" dirty="0">
            <a:solidFill>
              <a:schemeClr val="tx1"/>
            </a:solidFill>
          </a:endParaRPr>
        </a:p>
      </dsp:txBody>
      <dsp:txXfrm>
        <a:off x="2939369" y="2291798"/>
        <a:ext cx="3523820" cy="3097478"/>
      </dsp:txXfrm>
    </dsp:sp>
    <dsp:sp modelId="{D8348FD0-C314-4C77-8E72-FA685C5F3F6C}">
      <dsp:nvSpPr>
        <dsp:cNvPr id="0" name=""/>
        <dsp:cNvSpPr/>
      </dsp:nvSpPr>
      <dsp:spPr>
        <a:xfrm>
          <a:off x="-1481291" y="1869969"/>
          <a:ext cx="5343941" cy="5343941"/>
        </a:xfrm>
        <a:custGeom>
          <a:avLst/>
          <a:gdLst/>
          <a:ahLst/>
          <a:cxnLst/>
          <a:rect l="0" t="0" r="0" b="0"/>
          <a:pathLst>
            <a:path>
              <a:moveTo>
                <a:pt x="4253614" y="518408"/>
              </a:moveTo>
              <a:arcTo wR="2671970" hR="2671970" stAng="18377684" swAng="81395"/>
            </a:path>
          </a:pathLst>
        </a:custGeom>
        <a:noFill/>
        <a:ln w="1143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31DFA78-2A89-428C-B775-E6953C367BED}">
      <dsp:nvSpPr>
        <dsp:cNvPr id="0" name=""/>
        <dsp:cNvSpPr/>
      </dsp:nvSpPr>
      <dsp:spPr>
        <a:xfrm>
          <a:off x="107505" y="180927"/>
          <a:ext cx="2715871" cy="2447234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00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>
              <a:solidFill>
                <a:schemeClr val="tx1"/>
              </a:solidFill>
            </a:rPr>
            <a:t>Предоставление  и изъятие земель для определенных целей (в т.ч. для публичных нужд) (включение ЗУ в оборот, изменение правового статуса ЗУ в публичных интересах)</a:t>
          </a:r>
          <a:endParaRPr lang="ru-RU" sz="1800" kern="1200" dirty="0">
            <a:solidFill>
              <a:schemeClr val="tx1"/>
            </a:solidFill>
          </a:endParaRPr>
        </a:p>
      </dsp:txBody>
      <dsp:txXfrm>
        <a:off x="226969" y="300391"/>
        <a:ext cx="2476943" cy="2208306"/>
      </dsp:txXfrm>
    </dsp:sp>
    <dsp:sp modelId="{56CD64BE-B015-48AB-979C-3A70B34DEC85}">
      <dsp:nvSpPr>
        <dsp:cNvPr id="0" name=""/>
        <dsp:cNvSpPr/>
      </dsp:nvSpPr>
      <dsp:spPr>
        <a:xfrm>
          <a:off x="-1944910" y="-812250"/>
          <a:ext cx="5343941" cy="5343941"/>
        </a:xfrm>
        <a:custGeom>
          <a:avLst/>
          <a:gdLst/>
          <a:ahLst/>
          <a:cxnLst/>
          <a:rect l="0" t="0" r="0" b="0"/>
          <a:pathLst>
            <a:path>
              <a:moveTo>
                <a:pt x="4795009" y="1049585"/>
              </a:moveTo>
              <a:arcTo wR="2671970" hR="2671970" stAng="19356818" swAng="6437239"/>
            </a:path>
          </a:pathLst>
        </a:custGeom>
        <a:noFill/>
        <a:ln w="1143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A228675B-FD75-46C4-89BF-B2A0067C652A}">
      <dsp:nvSpPr>
        <dsp:cNvPr id="0" name=""/>
        <dsp:cNvSpPr/>
      </dsp:nvSpPr>
      <dsp:spPr>
        <a:xfrm>
          <a:off x="179500" y="2773211"/>
          <a:ext cx="2526951" cy="1610387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00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>
              <a:solidFill>
                <a:schemeClr val="tx1"/>
              </a:solidFill>
            </a:rPr>
            <a:t>Землеустройство (организационно-правовые мероприятия по обеспечению рационального землепользования)</a:t>
          </a:r>
          <a:endParaRPr lang="ru-RU" sz="1600" kern="1200" dirty="0">
            <a:solidFill>
              <a:schemeClr val="tx1"/>
            </a:solidFill>
          </a:endParaRPr>
        </a:p>
      </dsp:txBody>
      <dsp:txXfrm>
        <a:off x="258113" y="2851824"/>
        <a:ext cx="2369725" cy="1453161"/>
      </dsp:txXfrm>
    </dsp:sp>
    <dsp:sp modelId="{42B97C55-BC00-4B3D-85D0-B142B44B2437}">
      <dsp:nvSpPr>
        <dsp:cNvPr id="0" name=""/>
        <dsp:cNvSpPr/>
      </dsp:nvSpPr>
      <dsp:spPr>
        <a:xfrm>
          <a:off x="-3264657" y="1758766"/>
          <a:ext cx="5343941" cy="5343941"/>
        </a:xfrm>
        <a:custGeom>
          <a:avLst/>
          <a:gdLst/>
          <a:ahLst/>
          <a:cxnLst/>
          <a:rect l="0" t="0" r="0" b="0"/>
          <a:pathLst>
            <a:path>
              <a:moveTo>
                <a:pt x="4785408" y="1037097"/>
              </a:moveTo>
              <a:arcTo wR="2671970" hR="2671970" stAng="19336551" swAng="3833121"/>
            </a:path>
          </a:pathLst>
        </a:custGeom>
        <a:noFill/>
        <a:ln w="1143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E16C4728-2728-4FAC-9C77-FA69F827664D}">
      <dsp:nvSpPr>
        <dsp:cNvPr id="0" name=""/>
        <dsp:cNvSpPr/>
      </dsp:nvSpPr>
      <dsp:spPr>
        <a:xfrm>
          <a:off x="179512" y="4573414"/>
          <a:ext cx="2487264" cy="1061135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00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>
              <a:solidFill>
                <a:schemeClr val="tx1"/>
              </a:solidFill>
            </a:rPr>
            <a:t>Государственный учет земель (ведение кадастров и реестров)</a:t>
          </a:r>
          <a:endParaRPr lang="ru-RU" sz="1800" kern="1200" dirty="0">
            <a:solidFill>
              <a:schemeClr val="tx1"/>
            </a:solidFill>
          </a:endParaRPr>
        </a:p>
      </dsp:txBody>
      <dsp:txXfrm>
        <a:off x="231312" y="4625214"/>
        <a:ext cx="2383664" cy="957535"/>
      </dsp:txXfrm>
    </dsp:sp>
    <dsp:sp modelId="{83ED803F-58B7-4EFC-A22A-C8F9FD547CFF}">
      <dsp:nvSpPr>
        <dsp:cNvPr id="0" name=""/>
        <dsp:cNvSpPr/>
      </dsp:nvSpPr>
      <dsp:spPr>
        <a:xfrm>
          <a:off x="1087592" y="313397"/>
          <a:ext cx="6934950" cy="6934950"/>
        </a:xfrm>
        <a:custGeom>
          <a:avLst/>
          <a:gdLst/>
          <a:ahLst/>
          <a:cxnLst/>
          <a:rect l="0" t="0" r="0" b="0"/>
          <a:pathLst>
            <a:path>
              <a:moveTo>
                <a:pt x="76613" y="4192348"/>
              </a:moveTo>
              <a:arcTo wR="3467475" hR="3467475" stAng="10076001" swAng="10662490"/>
            </a:path>
          </a:pathLst>
        </a:custGeom>
        <a:noFill/>
        <a:ln w="1143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D1C4A34A-2983-4B59-9CF5-4D862C82BA78}">
      <dsp:nvSpPr>
        <dsp:cNvPr id="0" name=""/>
        <dsp:cNvSpPr/>
      </dsp:nvSpPr>
      <dsp:spPr>
        <a:xfrm>
          <a:off x="6723830" y="2988331"/>
          <a:ext cx="2277325" cy="2416246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00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0960" tIns="60960" rIns="60960" bIns="609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>
              <a:solidFill>
                <a:schemeClr val="tx1"/>
              </a:solidFill>
            </a:rPr>
            <a:t>Земельный контроль, в т.ч. Земельный надзор (контроль за соблюдением земельного законодательства правообладателями ЗУ)</a:t>
          </a:r>
          <a:endParaRPr lang="ru-RU" sz="1600" kern="1200" dirty="0">
            <a:solidFill>
              <a:schemeClr val="tx1"/>
            </a:solidFill>
          </a:endParaRPr>
        </a:p>
      </dsp:txBody>
      <dsp:txXfrm>
        <a:off x="6835000" y="3099501"/>
        <a:ext cx="2054985" cy="2193906"/>
      </dsp:txXfrm>
    </dsp:sp>
    <dsp:sp modelId="{0EE82789-6340-4557-9E69-496860237FBC}">
      <dsp:nvSpPr>
        <dsp:cNvPr id="0" name=""/>
        <dsp:cNvSpPr/>
      </dsp:nvSpPr>
      <dsp:spPr>
        <a:xfrm>
          <a:off x="4949784" y="77166"/>
          <a:ext cx="5343941" cy="5343941"/>
        </a:xfrm>
        <a:custGeom>
          <a:avLst/>
          <a:gdLst/>
          <a:ahLst/>
          <a:cxnLst/>
          <a:rect l="0" t="0" r="0" b="0"/>
          <a:pathLst>
            <a:path>
              <a:moveTo>
                <a:pt x="2323176" y="5321078"/>
              </a:moveTo>
              <a:arcTo wR="2671970" hR="2671970" stAng="5850042" swAng="9325573"/>
            </a:path>
          </a:pathLst>
        </a:custGeom>
        <a:noFill/>
        <a:ln w="1143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CEB599F2-D838-4801-A65A-070D24695961}">
      <dsp:nvSpPr>
        <dsp:cNvPr id="0" name=""/>
        <dsp:cNvSpPr/>
      </dsp:nvSpPr>
      <dsp:spPr>
        <a:xfrm>
          <a:off x="6660227" y="180017"/>
          <a:ext cx="2281159" cy="1942659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00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>
              <a:solidFill>
                <a:schemeClr val="tx1"/>
              </a:solidFill>
            </a:rPr>
            <a:t>Правовая охрана земель (охрана почв, сельхоз.угодий, мелиорация, рекультивация, консервация)</a:t>
          </a:r>
          <a:endParaRPr lang="ru-RU" sz="1800" kern="1200" dirty="0">
            <a:solidFill>
              <a:schemeClr val="tx1"/>
            </a:solidFill>
          </a:endParaRPr>
        </a:p>
      </dsp:txBody>
      <dsp:txXfrm>
        <a:off x="6755060" y="274850"/>
        <a:ext cx="2091493" cy="1752993"/>
      </dsp:txXfrm>
    </dsp:sp>
    <dsp:sp modelId="{53BF50CC-81C3-4122-A52F-DF59A439AECF}">
      <dsp:nvSpPr>
        <dsp:cNvPr id="0" name=""/>
        <dsp:cNvSpPr/>
      </dsp:nvSpPr>
      <dsp:spPr>
        <a:xfrm>
          <a:off x="2898559" y="-879194"/>
          <a:ext cx="5394494" cy="5394494"/>
        </a:xfrm>
        <a:custGeom>
          <a:avLst/>
          <a:gdLst/>
          <a:ahLst/>
          <a:cxnLst/>
          <a:rect l="0" t="0" r="0" b="0"/>
          <a:pathLst>
            <a:path>
              <a:moveTo>
                <a:pt x="5370608" y="3055406"/>
              </a:moveTo>
              <a:arcTo wR="2697247" hR="2697247" stAng="457841" swAng="10662490"/>
            </a:path>
          </a:pathLst>
        </a:custGeom>
        <a:noFill/>
        <a:ln w="1143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9704F4A-AA5A-41F7-BB5E-72862268B1CC}">
      <dsp:nvSpPr>
        <dsp:cNvPr id="0" name=""/>
        <dsp:cNvSpPr/>
      </dsp:nvSpPr>
      <dsp:spPr>
        <a:xfrm>
          <a:off x="2915816" y="0"/>
          <a:ext cx="3104265" cy="1949434"/>
        </a:xfrm>
        <a:prstGeom prst="roundRect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00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8580" tIns="68580" rIns="68580" bIns="68580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kern="1200" dirty="0" smtClean="0">
              <a:solidFill>
                <a:schemeClr val="tx1"/>
              </a:solidFill>
            </a:rPr>
            <a:t>Права на землю: право собственности; право  ПНВ; бессрочного пользования, аренды (незыблемость права собственности, устойчивость прав на землю)</a:t>
          </a:r>
          <a:endParaRPr lang="ru-RU" sz="1800" kern="1200" dirty="0">
            <a:solidFill>
              <a:schemeClr val="tx1"/>
            </a:solidFill>
          </a:endParaRPr>
        </a:p>
      </dsp:txBody>
      <dsp:txXfrm>
        <a:off x="3010980" y="95164"/>
        <a:ext cx="2913937" cy="1759106"/>
      </dsp:txXfrm>
    </dsp:sp>
    <dsp:sp modelId="{6E12EC9A-46ED-4133-8658-0D2C31F314C6}">
      <dsp:nvSpPr>
        <dsp:cNvPr id="0" name=""/>
        <dsp:cNvSpPr/>
      </dsp:nvSpPr>
      <dsp:spPr>
        <a:xfrm>
          <a:off x="-779269" y="-418423"/>
          <a:ext cx="5343941" cy="5343941"/>
        </a:xfrm>
        <a:custGeom>
          <a:avLst/>
          <a:gdLst/>
          <a:ahLst/>
          <a:cxnLst/>
          <a:rect l="0" t="0" r="0" b="0"/>
          <a:pathLst>
            <a:path>
              <a:moveTo>
                <a:pt x="5326777" y="2369600"/>
              </a:moveTo>
              <a:arcTo wR="2671970" hR="2671970" stAng="21210137" swAng="221166"/>
            </a:path>
          </a:pathLst>
        </a:custGeom>
        <a:noFill/>
        <a:ln w="1143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414BB4F6-FFD9-4AE3-9426-DB87F13006B9}">
      <dsp:nvSpPr>
        <dsp:cNvPr id="0" name=""/>
        <dsp:cNvSpPr/>
      </dsp:nvSpPr>
      <dsp:spPr>
        <a:xfrm>
          <a:off x="2000" y="0"/>
          <a:ext cx="8713403" cy="19507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00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>
              <a:solidFill>
                <a:schemeClr val="bg1"/>
              </a:solidFill>
            </a:rPr>
            <a:t>Элементы правового режима земель (определяют содержание земельных прав и обязанностей)</a:t>
          </a:r>
          <a:endParaRPr lang="ru-RU" sz="2800" kern="1200" dirty="0">
            <a:solidFill>
              <a:schemeClr val="bg1"/>
            </a:solidFill>
          </a:endParaRPr>
        </a:p>
      </dsp:txBody>
      <dsp:txXfrm>
        <a:off x="59135" y="57135"/>
        <a:ext cx="8599133" cy="1836470"/>
      </dsp:txXfrm>
    </dsp:sp>
    <dsp:sp modelId="{3343508A-0F5F-41CA-9349-9F006712B5A1}">
      <dsp:nvSpPr>
        <dsp:cNvPr id="0" name=""/>
        <dsp:cNvSpPr/>
      </dsp:nvSpPr>
      <dsp:spPr>
        <a:xfrm>
          <a:off x="0" y="2132856"/>
          <a:ext cx="5691865" cy="19507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00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06680" tIns="106680" rIns="106680" bIns="1066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smtClean="0">
              <a:solidFill>
                <a:schemeClr val="bg1"/>
              </a:solidFill>
            </a:rPr>
            <a:t>Меры государственного регулирования</a:t>
          </a:r>
          <a:endParaRPr lang="ru-RU" sz="2800" kern="1200" dirty="0">
            <a:solidFill>
              <a:schemeClr val="bg1"/>
            </a:solidFill>
          </a:endParaRPr>
        </a:p>
      </dsp:txBody>
      <dsp:txXfrm>
        <a:off x="57135" y="2189991"/>
        <a:ext cx="5577595" cy="1836470"/>
      </dsp:txXfrm>
    </dsp:sp>
    <dsp:sp modelId="{450DDF5C-933A-4327-84AD-6EC7C8902FC7}">
      <dsp:nvSpPr>
        <dsp:cNvPr id="0" name=""/>
        <dsp:cNvSpPr/>
      </dsp:nvSpPr>
      <dsp:spPr>
        <a:xfrm>
          <a:off x="1000" y="4212448"/>
          <a:ext cx="2787397" cy="19507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00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700" kern="1200" dirty="0" smtClean="0">
              <a:solidFill>
                <a:schemeClr val="bg1"/>
              </a:solidFill>
            </a:rPr>
            <a:t>Определение целевого назначения и видов разрешенного использования в административном порядке при планировании в сфере использования земель </a:t>
          </a:r>
          <a:endParaRPr lang="ru-RU" sz="1700" kern="1200" dirty="0">
            <a:solidFill>
              <a:schemeClr val="bg1"/>
            </a:solidFill>
          </a:endParaRPr>
        </a:p>
      </dsp:txBody>
      <dsp:txXfrm>
        <a:off x="58135" y="4269583"/>
        <a:ext cx="2673127" cy="1836470"/>
      </dsp:txXfrm>
    </dsp:sp>
    <dsp:sp modelId="{D2281258-AF0C-4331-8950-6FADBB4F200C}">
      <dsp:nvSpPr>
        <dsp:cNvPr id="0" name=""/>
        <dsp:cNvSpPr/>
      </dsp:nvSpPr>
      <dsp:spPr>
        <a:xfrm>
          <a:off x="2857524" y="4214563"/>
          <a:ext cx="2787397" cy="19507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00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700" kern="1200" dirty="0" smtClean="0">
              <a:solidFill>
                <a:schemeClr val="bg1"/>
              </a:solidFill>
            </a:rPr>
            <a:t>Меры по охране земель (охрана почв, сельхоз.угодий,  мелиорация, рекультивация, консервация земель)</a:t>
          </a:r>
          <a:endParaRPr lang="ru-RU" sz="1700" kern="1200" dirty="0">
            <a:solidFill>
              <a:schemeClr val="bg1"/>
            </a:solidFill>
          </a:endParaRPr>
        </a:p>
      </dsp:txBody>
      <dsp:txXfrm>
        <a:off x="2914659" y="4271698"/>
        <a:ext cx="2673127" cy="1836470"/>
      </dsp:txXfrm>
    </dsp:sp>
    <dsp:sp modelId="{8C793B0B-152C-4719-8EDD-97A91C20D333}">
      <dsp:nvSpPr>
        <dsp:cNvPr id="0" name=""/>
        <dsp:cNvSpPr/>
      </dsp:nvSpPr>
      <dsp:spPr>
        <a:xfrm>
          <a:off x="5927006" y="2107281"/>
          <a:ext cx="2787397" cy="19507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00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0010" tIns="80010" rIns="80010" bIns="80010" numCol="1" spcCol="1270" anchor="ctr" anchorCtr="0">
          <a:noAutofit/>
        </a:bodyPr>
        <a:lstStyle/>
        <a:p>
          <a:pPr lvl="0" algn="ctr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100" kern="1200" dirty="0" smtClean="0">
              <a:solidFill>
                <a:schemeClr val="bg1"/>
              </a:solidFill>
            </a:rPr>
            <a:t>Права и обязанности участников земельных правоотношений в зависимости от титула на землю</a:t>
          </a:r>
          <a:endParaRPr lang="ru-RU" sz="2100" kern="1200" dirty="0">
            <a:solidFill>
              <a:schemeClr val="bg1"/>
            </a:solidFill>
          </a:endParaRPr>
        </a:p>
      </dsp:txBody>
      <dsp:txXfrm>
        <a:off x="5984141" y="2164416"/>
        <a:ext cx="2673127" cy="1836470"/>
      </dsp:txXfrm>
    </dsp:sp>
    <dsp:sp modelId="{7C6F38B0-DD80-440D-AB4D-F837A963591A}">
      <dsp:nvSpPr>
        <dsp:cNvPr id="0" name=""/>
        <dsp:cNvSpPr/>
      </dsp:nvSpPr>
      <dsp:spPr>
        <a:xfrm>
          <a:off x="5927006" y="4212448"/>
          <a:ext cx="2787397" cy="1950740"/>
        </a:xfrm>
        <a:prstGeom prst="roundRect">
          <a:avLst>
            <a:gd name="adj" fmla="val 10000"/>
          </a:avLst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00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64770" tIns="64770" rIns="64770" bIns="64770" numCol="1" spcCol="1270" anchor="ctr" anchorCtr="0">
          <a:noAutofit/>
        </a:bodyPr>
        <a:lstStyle/>
        <a:p>
          <a:pPr lvl="0" algn="ctr" defTabSz="7556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700" kern="1200" dirty="0" smtClean="0">
              <a:solidFill>
                <a:schemeClr val="bg1"/>
              </a:solidFill>
            </a:rPr>
            <a:t>статус участников земельных правоотношений в зависимости от вида прав на ЗУ (собственность, аренда, безвозмездное пользование, сервитут)</a:t>
          </a:r>
          <a:endParaRPr lang="ru-RU" sz="1700" kern="1200" dirty="0">
            <a:solidFill>
              <a:schemeClr val="bg1"/>
            </a:solidFill>
          </a:endParaRPr>
        </a:p>
      </dsp:txBody>
      <dsp:txXfrm>
        <a:off x="5984141" y="4269583"/>
        <a:ext cx="2673127" cy="183647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6">
  <dgm:title val=""/>
  <dgm:desc val=""/>
  <dgm:catLst>
    <dgm:cat type="cycle" pri="4000"/>
    <dgm:cat type="relationship" pri="2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choose name="Name2">
          <dgm:if name="Name3" axis="ch" ptType="node" func="cnt" op="gt" val="2">
            <dgm:alg type="cycle">
              <dgm:param type="stAng" val="0"/>
              <dgm:param type="spanAng" val="360"/>
            </dgm:alg>
          </dgm:if>
          <dgm:else name="Name4">
            <dgm:alg type="cycle">
              <dgm:param type="stAng" val="-90"/>
              <dgm:param type="spanAng" val="360"/>
            </dgm:alg>
          </dgm:else>
        </dgm:choose>
      </dgm:if>
      <dgm:else name="Name5">
        <dgm:choose name="Name6">
          <dgm:if name="Name7" axis="ch" ptType="node" func="cnt" op="gt" val="2">
            <dgm:alg type="cycle">
              <dgm:param type="stAng" val="0"/>
              <dgm:param type="spanAng" val="-360"/>
            </dgm:alg>
          </dgm:if>
          <dgm:else name="Name8">
            <dgm:alg type="cycle">
              <dgm:param type="stAng" val="90"/>
              <dgm:param type="spanAng" val="-360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9">
      <dgm:if name="Name10" func="var" arg="dir" op="equ" val="norm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op="equ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if>
      <dgm:else name="Name11">
        <dgm:constrLst>
          <dgm:constr type="w" for="ch" forName="node" refType="w"/>
          <dgm:constr type="w" for="ch" ptType="sibTrans" refType="w" refFor="ch" refForName="node" op="equ" fact="0.3"/>
          <dgm:constr type="diam" for="ch" ptType="sibTrans" refType="diam" op="equ" fact="-1"/>
          <dgm:constr type="sibSp" refType="w" refFor="ch" refForName="node" op="equ" fact="0.15"/>
          <dgm:constr type="w" for="ch" forName="spNode" refType="sibSp" fact="1.6"/>
          <dgm:constr type="primFontSz" for="ch" forName="node" op="equ" val="65"/>
        </dgm:constrLst>
      </dgm:else>
    </dgm:choose>
    <dgm:ruleLst/>
    <dgm:forEach name="Name12" axis="ch" ptType="node">
      <dgm:layoutNode name="node">
        <dgm:varLst>
          <dgm:bulletEnabled val="1"/>
        </dgm:varLst>
        <dgm:alg type="tx"/>
        <dgm:shape xmlns:r="http://schemas.openxmlformats.org/officeDocument/2006/relationships" type="roundRect" r:blip="">
          <dgm:adjLst/>
        </dgm:shape>
        <dgm:presOf axis="desOrSelf" ptType="node"/>
        <dgm:constrLst>
          <dgm:constr type="h" refType="w" fact="0.65"/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primFontSz" val="5" fact="NaN" max="NaN"/>
        </dgm:ruleLst>
      </dgm:layoutNode>
      <dgm:choose name="Name13">
        <dgm:if name="Name14" axis="par ch" ptType="doc node" func="cnt" op="gt" val="1">
          <dgm:layoutNode name="spNode">
            <dgm:alg type="sp"/>
            <dgm:shape xmlns:r="http://schemas.openxmlformats.org/officeDocument/2006/relationships" r:blip="">
              <dgm:adjLst/>
            </dgm:shape>
            <dgm:presOf/>
            <dgm:constrLst>
              <dgm:constr type="h" refType="w"/>
            </dgm:constrLst>
            <dgm:ruleLst/>
          </dgm:layoutNode>
          <dgm:forEach name="Name15" axis="followSib" ptType="sibTrans" hideLastTrans="0" cnt="1">
            <dgm:layoutNode name="sibTrans">
              <dgm:alg type="conn">
                <dgm:param type="dim" val="1D"/>
                <dgm:param type="connRout" val="curve"/>
                <dgm:param type="begPts" val="radial"/>
                <dgm:param type="endPts" val="radial"/>
                <dgm:param type="endSty" val="noArr"/>
              </dgm:alg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65"/>
                <dgm:constr type="connDist"/>
                <dgm:constr type="begPad" refType="connDist" fact="0.01"/>
                <dgm:constr type="endPad" refType="connDist" fact="0.01"/>
              </dgm:constrLst>
              <dgm:ruleLst/>
            </dgm:layoutNode>
          </dgm:forEach>
        </dgm:if>
        <dgm:else name="Name16"/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49816F-2811-4A11-B749-B65D43A2D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мпоненты природной среды: недра, почвы, поверхностные и подземные воды, атмосферный воздух, животный мир, иные организмы, озоновый слой, околоземное простр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91D799-ACEE-437A-8F07-10F6302487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ема Введение в земельное пра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FF831D-84AB-436A-AC3D-D47203319A1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897-2960-4505-986E-52B7D952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5243-0981-45AF-87A3-2F1E7E15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C8F-B97A-4F51-A088-20691564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B88-10D7-4686-93A1-29D206DA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6281-726E-4E0F-8B31-E1AEC30D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5A13-BDCA-43A9-92CA-25A1257F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85E3-A4E6-40BB-B9DB-BB04F56C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F3C1-991C-4362-8905-ED1AAAD9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DE77-CC76-428A-A034-F8C2946F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620A-8F51-4A4E-B7DF-2D62B0F8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1AF7-75D1-49BB-9D58-6DE3F9C8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4CE-A688-4CFA-81F6-CE69AAFF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7169-D628-489A-8159-0760AB18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392E-D3A7-4BC4-8693-0817054B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6F83-4F63-4ED5-BBC5-03E7967A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A1B4-A409-47FC-8C59-1DB12196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D379-0F2F-439D-82CE-905FF4A7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7A20B-09BE-4575-BDCE-CC0857B6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C88E-2CF2-4A10-9800-3713E1F4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DA7D6-B6EE-44BD-ACF9-FCA5A705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266D6-9F6B-47FB-8118-6C002887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DE883-C8A2-4D4D-8ECA-DC00359D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741-4FDC-43F7-99B0-51E14788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D8E6E-F381-4ECF-B5B4-570E36AF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E5BA4-1A33-49B3-B086-03596187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918A1-0165-4FD1-B845-B1323EE8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D79D-5523-4852-9B32-BD907568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1FB6-4966-4997-9B85-5428FBFE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547D9-0EF9-4140-BC26-07A912FB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BEF41-D028-446B-B32F-ADB94DA3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10D30-C3E4-4FAC-90D7-C086E52C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1C827-04D7-4B6E-9F57-4AF08164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C191-0542-4938-A611-E09D1065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ECDF-A6F1-4C0E-B0AE-7ED9B80F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65329-396D-44D3-80EF-EF34D718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DE40F-5CAF-425F-87E3-0D09C64C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6562C-D22E-44B6-9BDE-4BC48B00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555FE-3E4B-4BEF-8EC3-9A3692BD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A281D-B2D3-4CA8-85A4-7E164E71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28E1-2A2C-4295-803E-25CBCB93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6940A-967F-4E3B-AB39-DB6845E7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1D668-CB63-4BBE-82B9-531F3F0F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60080"/>
            <a:ext cx="26496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9FC3E-69D1-4400-82A1-2F9009BF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0C6-E23C-4484-8E3A-4BF91295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903-D2C7-4DA5-A08B-70CBD56A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313-B652-4E40-9662-1DA6C2B1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008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316-048D-40A6-851A-B5AF3F4B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0080"/>
            <a:ext cx="8229240" cy="22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E37-2E1A-47AB-AC64-9A22557B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D7B0DA-EE9E-4553-A5AD-FCF37218ECA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ретий уровень</a:t>
            </a:r>
            <a:endParaRPr b="0" lang="ru-RU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01AA4A-FD1D-4981-B1F0-04EFE4ABF6A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1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4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324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3" charset="2"/>
              <a:buChar char="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5480" indent="-18288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Wingdings 2" charset="2"/>
              <a:buChar char=""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F84B02-E683-4A71-B5C6-B60EB014DE6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A06206-5C90-4878-9030-515A82ABFF1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8229240" cy="1511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 cap="all">
                <a:solidFill>
                  <a:srgbClr val="000000"/>
                </a:solidFill>
                <a:latin typeface="Arial"/>
              </a:rPr>
              <a:t>Земельное право</a:t>
            </a:r>
            <a:endParaRPr b="0" lang="ru-RU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9640" y="2205000"/>
            <a:ext cx="8064360" cy="41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ДМЕТ, ПРИНЦИПЫ И СИСТЕМА ЗЕМЕЛЬН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Система источников земельного права </a:t>
            </a:r>
            <a:endParaRPr b="0" lang="ru-RU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13824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окупность законодательных, подзаконных и локальных нормативно-правовых актов.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1382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1382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онституции предусмотрено, что земля и другие природные ресурсы в Донецкой Народной Республике используются и охраняются как основа жизни и деятельности народа. Использование и охрана земли и других природных ресурсов, находящихся на территории Донецкой Народной Республики, осуществляются в соответствии с законодательством Донецкой Народной Республики.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2"/>
          <p:cNvSpPr/>
          <p:nvPr/>
        </p:nvSpPr>
        <p:spPr>
          <a:xfrm>
            <a:off x="683640" y="764640"/>
            <a:ext cx="7848360" cy="54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spcAft>
                <a:spcPts val="1001"/>
              </a:spcAft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ЕЛЬНЫЙ КОДЕКС является тем законодательным актом, который определяет основные положения институтов земельного права. Земельный кодекс определяет основные принципы реализации права частной собственности на землю и предусматривает определенные положения, в час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ffffff"/>
              </a:buClr>
              <a:buFont typeface="Symbol"/>
              <a:buChar char=""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ляет частную, коммунальную и государственную формы собственности на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ffffff"/>
              </a:buClr>
              <a:buFont typeface="Symbol"/>
              <a:buChar char=""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ускает возможность приобретения в частную собственность земельных участков фактически из всех категорий земел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ffffff"/>
              </a:buClr>
              <a:buFont typeface="Symbol"/>
              <a:buChar char=""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усматривает проведение разграничения земель государственной и коммунальной собствен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ffffff"/>
              </a:buClr>
              <a:buFont typeface="Symbol"/>
              <a:buChar char=""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яет перечень земель, которые не могут передаваться в частную собствен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Aft>
                <a:spcPts val="1001"/>
              </a:spcAft>
              <a:buClr>
                <a:srgbClr val="ffffff"/>
              </a:buClr>
              <a:buFont typeface="Symbol"/>
              <a:buChar char=""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ляет способы и механизм приобретения гражданами и юридическими лицами земельных участков в собственность и тому подоб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 u="sng">
                <a:solidFill>
                  <a:srgbClr val="000000"/>
                </a:solidFill>
                <a:uFillTx/>
                <a:latin typeface="Arial"/>
              </a:rPr>
              <a:t>Подзаконные нормативные акты как источники земельного права</a:t>
            </a: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4312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ормативно-правовые акты, выражающие деятельность органов государственной власти и местного самоуправления, которые не противоречат Конституции, Земельному кодексу, законам и детализируют их положения. Функционирования подзаконных нормативных актов в системе источников земельного права обусловлено в первую очередь многоуровневой структурой самих земельных отношений, которые требуют не только законодательного, но и подзаконного (в том числе локального) нормативного регулирования.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822924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-411480">
              <a:lnSpc>
                <a:spcPct val="100000"/>
              </a:lnSpc>
              <a:spcBef>
                <a:spcPts val="32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емля как политическое пространство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32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Территория государства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32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административно-территориальное деление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32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32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емля как природный ресурс, основной компонент природной среды, связанный неразрывно с другими компонентами природной среды.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32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редство производства в сельском и лесном хозяйстве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32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ространственно-территориальная основа, используемая для строительства различных объектов (промышленные объекты, населенные пункты, инженерная инфраструктура)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32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32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емля как недвижимое имущество – земельный участок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32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емельный участок – часть поверхности земли, границы которой в соответствии с требованиями законодательства 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32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пределены, 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32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бозначены на межевом плане (кадастровом плане), 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32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становлены и закреплены на местности специальными знаками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</a:pPr>
            <a:endParaRPr b="0" lang="ru-RU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емля как объект правового регулирования 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Некоторые основные принципы земельного права </a:t>
            </a:r>
            <a:endParaRPr b="0" lang="ru-RU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3000"/>
          </a:bodyPr>
          <a:p>
            <a:pPr marL="504720" indent="-378360">
              <a:lnSpc>
                <a:spcPct val="100000"/>
              </a:lnSpc>
              <a:spcBef>
                <a:spcPts val="159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Межотраслевые</a:t>
            </a:r>
            <a:endParaRPr b="0" lang="ru-RU" sz="8000" spc="-1" strike="noStrike">
              <a:solidFill>
                <a:srgbClr val="ffffff"/>
              </a:solidFill>
              <a:latin typeface="Times New Roman"/>
            </a:endParaRPr>
          </a:p>
          <a:p>
            <a:pPr marL="504720" indent="-378360">
              <a:lnSpc>
                <a:spcPct val="100000"/>
              </a:lnSpc>
              <a:spcBef>
                <a:spcPts val="159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- учет значения земли как основы жизни и деятельности человека</a:t>
            </a:r>
            <a:endParaRPr b="0" lang="ru-RU" sz="8000" spc="-1" strike="noStrike">
              <a:solidFill>
                <a:srgbClr val="ffffff"/>
              </a:solidFill>
              <a:latin typeface="Times New Roman"/>
            </a:endParaRPr>
          </a:p>
          <a:p>
            <a:pPr marL="504720" indent="-378360">
              <a:lnSpc>
                <a:spcPct val="100000"/>
              </a:lnSpc>
              <a:spcBef>
                <a:spcPts val="159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- приоритете охраны земли как важнейшего компонента природной среды и средства производства в сельском и лесном хозяйстве перед использованием земли в качестве недвижимого имущества</a:t>
            </a:r>
            <a:endParaRPr b="0" lang="ru-RU" sz="8000" spc="-1" strike="noStrike">
              <a:solidFill>
                <a:srgbClr val="ffffff"/>
              </a:solidFill>
              <a:latin typeface="Times New Roman"/>
            </a:endParaRPr>
          </a:p>
          <a:p>
            <a:pPr marL="504720" indent="-378360">
              <a:lnSpc>
                <a:spcPct val="100000"/>
              </a:lnSpc>
              <a:spcBef>
                <a:spcPts val="159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- приоритет охраны жизни и здоровья человека</a:t>
            </a:r>
            <a:endParaRPr b="0" lang="ru-RU" sz="8000" spc="-1" strike="noStrike">
              <a:solidFill>
                <a:srgbClr val="ffffff"/>
              </a:solidFill>
              <a:latin typeface="Times New Roman"/>
            </a:endParaRPr>
          </a:p>
          <a:p>
            <a:pPr marL="504720" indent="-378360">
              <a:lnSpc>
                <a:spcPct val="100000"/>
              </a:lnSpc>
              <a:spcBef>
                <a:spcPts val="159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- …..</a:t>
            </a:r>
            <a:endParaRPr b="0" lang="ru-RU" sz="8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428000" y="1600200"/>
            <a:ext cx="4258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2000"/>
          </a:bodyPr>
          <a:p>
            <a:pPr marL="482760" indent="-361800">
              <a:lnSpc>
                <a:spcPct val="100000"/>
              </a:lnSpc>
              <a:spcBef>
                <a:spcPts val="144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Отраслевые</a:t>
            </a:r>
            <a:endParaRPr b="0" lang="ru-RU" sz="7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361800">
              <a:lnSpc>
                <a:spcPct val="100000"/>
              </a:lnSpc>
              <a:spcBef>
                <a:spcPts val="144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- многообразие форм собственности на землю</a:t>
            </a:r>
            <a:endParaRPr b="0" lang="ru-RU" sz="7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361800">
              <a:lnSpc>
                <a:spcPct val="100000"/>
              </a:lnSpc>
              <a:spcBef>
                <a:spcPts val="144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- множественность прав на землю</a:t>
            </a:r>
            <a:endParaRPr b="0" lang="ru-RU" sz="7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361800">
              <a:lnSpc>
                <a:spcPct val="100000"/>
              </a:lnSpc>
              <a:spcBef>
                <a:spcPts val="144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- принцип целевого использования земли</a:t>
            </a:r>
            <a:endParaRPr b="0" lang="ru-RU" sz="7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361800">
              <a:lnSpc>
                <a:spcPct val="100000"/>
              </a:lnSpc>
              <a:spcBef>
                <a:spcPts val="144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- единство судьбы земельного участка и всех расположенных на нем объектов</a:t>
            </a:r>
            <a:endParaRPr b="0" lang="ru-RU" sz="7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361800">
              <a:lnSpc>
                <a:spcPct val="100000"/>
              </a:lnSpc>
              <a:spcBef>
                <a:spcPts val="144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- устойчивость права землепользования</a:t>
            </a:r>
            <a:endParaRPr b="0" lang="ru-RU" sz="7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361800">
              <a:lnSpc>
                <a:spcPct val="100000"/>
              </a:lnSpc>
              <a:spcBef>
                <a:spcPts val="144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- платность землепользования</a:t>
            </a:r>
            <a:endParaRPr b="0" lang="ru-RU" sz="7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361800">
              <a:lnSpc>
                <a:spcPct val="100000"/>
              </a:lnSpc>
              <a:spcBef>
                <a:spcPts val="144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-  участие граждан и общественных организаций в решении вопросов, касающихся их прав на землю</a:t>
            </a:r>
            <a:endParaRPr b="0" lang="ru-RU" sz="7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361800">
              <a:lnSpc>
                <a:spcPct val="100000"/>
              </a:lnSpc>
              <a:spcBef>
                <a:spcPts val="1440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- равенство участников земельных правоотношений в защите своих прав на землю</a:t>
            </a:r>
            <a:endParaRPr b="0" lang="ru-RU" sz="7200" spc="-1" strike="noStrike">
              <a:solidFill>
                <a:srgbClr val="ffffff"/>
              </a:solidFill>
              <a:latin typeface="Times New Roman"/>
            </a:endParaRPr>
          </a:p>
          <a:p>
            <a:pPr marL="482760" indent="-36180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- …..</a:t>
            </a: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итуты земельного права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щая часть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 землепользования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 собственности на землю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нирование в сфере использования и охраны земли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млеустройство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ый учет земель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мельный контроль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етственность за нарушение земельного законодательства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ая часть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вой режим земель различных категорий (в зависимости от целевого использования (целевого назначения и видов разрешенного использования))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вой режим земель в зависимости от видов прав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вой режим земель граждан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474120" indent="-35532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вовой режим земель юридических лиц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64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Для регулирования земельных правоотношений характерен разрешительный тип правового регулирования с ограничивающим условием в виде установления обязываний, которые (обязывания) закрепляются в упровомачивающих нормах»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Специфика метода земельного права</a:t>
            </a:r>
            <a:endParaRPr b="0" lang="ru-RU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1F9689-4776-4EE3-9850-AE62F4C1FBE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31244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  <a:effectLst>
            <a:outerShdw dist="25560" dir="5400000" blurRad="38880" rotWithShape="0">
              <a:srgbClr val="ffffff">
                <a:alpha val="83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f9f9f9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Земельный правопорядок – основанная на праве и сложившаяся в результате осуществления идей и принципов законности такая </a:t>
            </a:r>
            <a:r>
              <a:rPr b="1" i="1" lang="ru-RU" sz="2800" spc="-1" strike="noStrike" u="sng">
                <a:solidFill>
                  <a:srgbClr val="00b050"/>
                </a:solidFill>
                <a:uFillTx/>
                <a:latin typeface="Times New Roman"/>
              </a:rPr>
              <a:t>упорядоченность отношений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оторая выражается в </a:t>
            </a:r>
            <a:r>
              <a:rPr b="1" i="1" lang="ru-RU" sz="2800" spc="-1" strike="noStrike" u="sng">
                <a:solidFill>
                  <a:srgbClr val="00b050"/>
                </a:solidFill>
                <a:uFillTx/>
                <a:latin typeface="Times New Roman"/>
              </a:rPr>
              <a:t>правомерном поведении участнико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ельных правоотношений.»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581f4d"/>
                </a:solidFill>
                <a:latin typeface="Arial"/>
              </a:rPr>
              <a:t>Земельный правопорядок</a:t>
            </a:r>
            <a:endParaRPr b="0" lang="ru-RU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7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16AE0C-FFDB-4F29-B68C-D08ACE464D2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764280"/>
          </a:xfrm>
          <a:prstGeom prst="rect">
            <a:avLst/>
          </a:prstGeom>
          <a:solidFill>
            <a:schemeClr val="accent1"/>
          </a:solidFill>
          <a:ln w="31680">
            <a:solidFill>
              <a:srgbClr val="ffffff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lIns="90000" rIns="90000" tIns="45000" bIns="45000" anchor="ctr">
            <a:normAutofit fontScale="7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лементы земельного правопоряд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упорядоченность правоотношений) 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32436026"/>
              </p:ext>
            </p:extLst>
          </p:nvPr>
        </p:nvGraphicFramePr>
        <p:xfrm>
          <a:off x="0" y="836640"/>
          <a:ext cx="9000720" cy="6021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Arial"/>
              </a:rPr>
              <a:t>Элементы правового режима земель</a:t>
            </a:r>
            <a:endParaRPr b="0" lang="ru-RU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486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м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166779256"/>
              </p:ext>
            </p:extLst>
          </p:nvPr>
        </p:nvGraphicFramePr>
        <p:xfrm>
          <a:off x="179640" y="0"/>
          <a:ext cx="8714880" cy="6165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90" name="Стрелка вниз 6"/>
          <p:cNvSpPr/>
          <p:nvPr/>
        </p:nvSpPr>
        <p:spPr>
          <a:xfrm>
            <a:off x="899640" y="3717000"/>
            <a:ext cx="1367640" cy="575640"/>
          </a:xfrm>
          <a:prstGeom prst="downArrow">
            <a:avLst>
              <a:gd name="adj1" fmla="val 50000"/>
              <a:gd name="adj2" fmla="val 56168"/>
            </a:avLst>
          </a:prstGeom>
          <a:solidFill>
            <a:srgbClr val="b83d68"/>
          </a:solidFill>
          <a:ln>
            <a:solidFill>
              <a:srgbClr val="882d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imes New Roman"/>
              </a:rPr>
              <a:t>1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трелка вниз 7"/>
          <p:cNvSpPr/>
          <p:nvPr/>
        </p:nvSpPr>
        <p:spPr>
          <a:xfrm>
            <a:off x="4068000" y="3717000"/>
            <a:ext cx="1151640" cy="647640"/>
          </a:xfrm>
          <a:prstGeom prst="downArrow">
            <a:avLst>
              <a:gd name="adj1" fmla="val 50000"/>
              <a:gd name="adj2" fmla="val 41534"/>
            </a:avLst>
          </a:prstGeom>
          <a:solidFill>
            <a:srgbClr val="b83d68"/>
          </a:solidFill>
          <a:ln>
            <a:solidFill>
              <a:srgbClr val="882d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imes New Roman"/>
              </a:rPr>
              <a:t>1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трелка вниз 8"/>
          <p:cNvSpPr/>
          <p:nvPr/>
        </p:nvSpPr>
        <p:spPr>
          <a:xfrm>
            <a:off x="3276000" y="1772640"/>
            <a:ext cx="4842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>
            <a:solidFill>
              <a:srgbClr val="882d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низ 9"/>
          <p:cNvSpPr/>
          <p:nvPr/>
        </p:nvSpPr>
        <p:spPr>
          <a:xfrm>
            <a:off x="7236360" y="1700640"/>
            <a:ext cx="772200" cy="503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83d68"/>
          </a:solidFill>
          <a:ln>
            <a:solidFill>
              <a:srgbClr val="882d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Двойная стрелка вверх/вниз 10"/>
          <p:cNvSpPr/>
          <p:nvPr/>
        </p:nvSpPr>
        <p:spPr>
          <a:xfrm>
            <a:off x="6732360" y="3933000"/>
            <a:ext cx="1656000" cy="431640"/>
          </a:xfrm>
          <a:prstGeom prst="upDownArrow">
            <a:avLst>
              <a:gd name="adj1" fmla="val 100000"/>
              <a:gd name="adj2" fmla="val 50000"/>
            </a:avLst>
          </a:prstGeom>
          <a:solidFill>
            <a:srgbClr val="b83d68"/>
          </a:solidFill>
          <a:ln>
            <a:solidFill>
              <a:srgbClr val="882d4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760" y="114300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Совокупность правовых норм, определяющих сущность и состав таких элементов:</a:t>
            </a:r>
            <a:endParaRPr b="0" lang="ru-RU" sz="22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Целевое назначение (отнесение к определенной категории)</a:t>
            </a:r>
            <a:endParaRPr b="0" lang="ru-RU" sz="22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Разрешенное использование (основное, вспомогательное, условно-разрешенное)</a:t>
            </a:r>
            <a:endParaRPr b="0" lang="ru-RU" sz="22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едельные параметры земельного участка (максимальные и минимальные нормы)</a:t>
            </a:r>
            <a:endParaRPr b="0" lang="ru-RU" sz="22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едельные параметры разрешенного использования (строительства ) на земельном участке </a:t>
            </a:r>
            <a:endParaRPr b="0" lang="ru-RU" sz="2200" spc="-1" strike="noStrike">
              <a:solidFill>
                <a:srgbClr val="ffffff"/>
              </a:solidFill>
              <a:latin typeface="Times New Roman"/>
            </a:endParaRPr>
          </a:p>
          <a:p>
            <a:pPr marL="548640" indent="-411480">
              <a:lnSpc>
                <a:spcPct val="100000"/>
              </a:lnSpc>
              <a:spcBef>
                <a:spcPts val="43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Правовой режим зданий, строений, сооружений, которые оказывают влияние на права по использованию и распоряжению земельным участком</a:t>
            </a:r>
            <a:endParaRPr b="0" lang="ru-RU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500040" y="152280"/>
            <a:ext cx="81864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овой   режим   земельного    участка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пекс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Апекс">
  <a:themeElements>
    <a:clrScheme name="Изящная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1793</TotalTime>
  <Application>LibreOffice/7.4.7.2$Linux_X86_64 LibreOffice_project/40$Build-2</Application>
  <AppVersion>15.0000</AppVersion>
  <Words>791</Words>
  <Paragraphs>9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9T11:23:06Z</dcterms:created>
  <dc:creator>User</dc:creator>
  <dc:description/>
  <dc:language>en-US</dc:language>
  <cp:lastModifiedBy>User</cp:lastModifiedBy>
  <dcterms:modified xsi:type="dcterms:W3CDTF">2020-10-21T08:50:29Z</dcterms:modified>
  <cp:revision>84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2</vt:r8>
  </property>
</Properties>
</file>